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46B-50C0-4000-A36A-5A17EFAD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1AD-9195-4C45-9F7A-210F3EF5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B9B-A54C-4D7A-8AD6-1B65F248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FFD-4F4F-49CE-8F7D-9593E96A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837-E09B-4C50-87E8-737DC300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170-3525-4C70-80EA-1DC96ED8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108-3F14-4295-9F34-D37CA317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C41-CD1C-4386-9221-B0078D2C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824-3ABA-40EB-9C08-B4B44C39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C40-0025-4A3F-9BA7-C43CB26F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9F09-5F2F-45CA-BCDA-9B9F3C3E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4DD-A4BC-4444-9AC0-AD1F0DD8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4D31-3F34-45AC-B3DC-9C3BBCDD5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19320" y="587520"/>
            <a:ext cx="7924680" cy="533160"/>
            <a:chOff x="1219320" y="587520"/>
            <a:chExt cx="7924680" cy="533160"/>
          </a:xfrm>
        </p:grpSpPr>
        <p:sp>
          <p:nvSpPr>
            <p:cNvPr id="42" name=""/>
            <p:cNvSpPr/>
            <p:nvPr/>
          </p:nvSpPr>
          <p:spPr>
            <a:xfrm>
              <a:off x="1219320" y="587520"/>
              <a:ext cx="7924680" cy="53316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1311120" y="592200"/>
              <a:ext cx="5318280" cy="457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8f8f8"/>
                  </a:solidFill>
                  <a:latin typeface="Futura Md BT"/>
                </a:rPr>
                <a:t>CALIDAD: ¿POR QUÉ?</a:t>
              </a:r>
              <a:endPara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  <a:ea typeface="Futura Md BT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324480" y="6172200"/>
            <a:ext cx="2819520" cy="22860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0" y="1523880"/>
            <a:ext cx="464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de"/>
                </a:solidFill>
                <a:latin typeface="Futura Md BT"/>
              </a:rPr>
              <a:t>PARA EL LOGRO DE OBJETIVOS</a:t>
            </a:r>
            <a:endParaRPr b="1" lang="en-US" sz="2800" spc="1" strike="noStrike">
              <a:ln w="0">
                <a:noFill/>
              </a:ln>
              <a:solidFill>
                <a:srgbClr val="0000de"/>
              </a:solidFill>
              <a:latin typeface="Futura Md BT"/>
              <a:ea typeface="Futura Md BT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2209680"/>
            <a:ext cx="2286000" cy="3657600"/>
            <a:chOff x="228600" y="2209680"/>
            <a:chExt cx="2286000" cy="3657600"/>
          </a:xfrm>
        </p:grpSpPr>
        <p:sp>
          <p:nvSpPr>
            <p:cNvPr id="48" name=""/>
            <p:cNvSpPr/>
            <p:nvPr/>
          </p:nvSpPr>
          <p:spPr>
            <a:xfrm>
              <a:off x="228600" y="2209680"/>
              <a:ext cx="2286000" cy="3657600"/>
            </a:xfrm>
            <a:prstGeom prst="rect">
              <a:avLst/>
            </a:prstGeom>
            <a:solidFill>
              <a:srgbClr val="0000de"/>
            </a:solidFill>
            <a:ln w="936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2819520"/>
              <a:ext cx="2133360" cy="23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8f8f8"/>
                  </a:solidFill>
                  <a:latin typeface="Futura Lt BT"/>
                </a:rPr>
                <a:t>L.O.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8f8f8"/>
                  </a:solidFill>
                  <a:latin typeface="Futura Lt BT"/>
                </a:rPr>
                <a:t>TITULO V. DE LA EVALUACIÓN Y ACREDI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8f8f8"/>
                  </a:solidFill>
                  <a:latin typeface="Futura Lt BT"/>
                </a:rPr>
                <a:t>ARTÍCULO 31. GARANTÍA DE CA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666880" y="2209680"/>
            <a:ext cx="6248520" cy="914400"/>
            <a:chOff x="2666880" y="2209680"/>
            <a:chExt cx="6248520" cy="914400"/>
          </a:xfrm>
        </p:grpSpPr>
        <p:sp>
          <p:nvSpPr>
            <p:cNvPr id="51" name=""/>
            <p:cNvSpPr/>
            <p:nvPr/>
          </p:nvSpPr>
          <p:spPr>
            <a:xfrm>
              <a:off x="2666880" y="2209680"/>
              <a:ext cx="6248520" cy="91440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66920"/>
              <a:ext cx="6095880" cy="824040"/>
              <a:chOff x="2743200" y="2266920"/>
              <a:chExt cx="6095880" cy="824040"/>
            </a:xfrm>
          </p:grpSpPr>
          <p:sp>
            <p:nvSpPr>
              <p:cNvPr id="53" name=""/>
              <p:cNvSpPr/>
              <p:nvPr/>
            </p:nvSpPr>
            <p:spPr>
              <a:xfrm>
                <a:off x="2895480" y="2266920"/>
                <a:ext cx="594360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M</a:t>
                </a:r>
                <a:r>
                  <a:rPr b="1" lang="es-ES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EDICIÓN DEL RENDIMIENTO del servicio público de la </a:t>
                </a: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E</a:t>
                </a:r>
                <a:r>
                  <a:rPr b="1" lang="es-ES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ducación </a:t>
                </a: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S</a:t>
                </a:r>
                <a:r>
                  <a:rPr b="1" lang="es-ES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uperior </a:t>
                </a: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U</a:t>
                </a:r>
                <a:r>
                  <a:rPr b="1" lang="es-ES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niversitaria y la rendición de cuentas a la sociedad</a:t>
                </a:r>
                <a:r>
                  <a:rPr b="1" lang="es-ES" sz="1600" spc="-1" strike="noStrike">
                    <a:solidFill>
                      <a:srgbClr val="0000de"/>
                    </a:solidFill>
                    <a:latin typeface="Futura Md BT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743200" y="2342880"/>
                <a:ext cx="152280" cy="15264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2666880" y="3276720"/>
            <a:ext cx="6248520" cy="914400"/>
            <a:chOff x="2666880" y="3276720"/>
            <a:chExt cx="6248520" cy="914400"/>
          </a:xfrm>
        </p:grpSpPr>
        <p:sp>
          <p:nvSpPr>
            <p:cNvPr id="56" name=""/>
            <p:cNvSpPr/>
            <p:nvPr/>
          </p:nvSpPr>
          <p:spPr>
            <a:xfrm>
              <a:off x="2666880" y="3276720"/>
              <a:ext cx="6248520" cy="91440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2743200" y="3333600"/>
              <a:ext cx="6095880" cy="824040"/>
              <a:chOff x="2743200" y="3333600"/>
              <a:chExt cx="6095880" cy="824040"/>
            </a:xfrm>
          </p:grpSpPr>
          <p:sp>
            <p:nvSpPr>
              <p:cNvPr id="58" name=""/>
              <p:cNvSpPr/>
              <p:nvPr/>
            </p:nvSpPr>
            <p:spPr>
              <a:xfrm>
                <a:off x="2895480" y="3333600"/>
                <a:ext cx="594360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T</a:t>
                </a:r>
                <a:r>
                  <a:rPr b="1" lang="es-ES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RANSPARENCIA, </a:t>
                </a: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C</a:t>
                </a:r>
                <a:r>
                  <a:rPr b="1" lang="es-ES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OMPARACIÓN, </a:t>
                </a: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C</a:t>
                </a:r>
                <a:r>
                  <a:rPr b="1" lang="es-ES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OOPERACIÓN y</a:t>
                </a: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 C</a:t>
                </a:r>
                <a:r>
                  <a:rPr b="1" lang="es-ES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OMPETITIVIDAD de las Universidades en el ámbito nacional e internacional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743200" y="3409560"/>
                <a:ext cx="152280" cy="15264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" name=""/>
          <p:cNvGrpSpPr/>
          <p:nvPr/>
        </p:nvGrpSpPr>
        <p:grpSpPr>
          <a:xfrm>
            <a:off x="2666880" y="4343400"/>
            <a:ext cx="6248520" cy="685800"/>
            <a:chOff x="2666880" y="4343400"/>
            <a:chExt cx="6248520" cy="685800"/>
          </a:xfrm>
        </p:grpSpPr>
        <p:sp>
          <p:nvSpPr>
            <p:cNvPr id="61" name=""/>
            <p:cNvSpPr/>
            <p:nvPr/>
          </p:nvSpPr>
          <p:spPr>
            <a:xfrm>
              <a:off x="2666880" y="4343400"/>
              <a:ext cx="6248520" cy="68580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2743200" y="4400640"/>
              <a:ext cx="6095880" cy="580680"/>
              <a:chOff x="2743200" y="4400640"/>
              <a:chExt cx="6095880" cy="580680"/>
            </a:xfrm>
          </p:grpSpPr>
          <p:sp>
            <p:nvSpPr>
              <p:cNvPr id="63" name=""/>
              <p:cNvSpPr/>
              <p:nvPr/>
            </p:nvSpPr>
            <p:spPr>
              <a:xfrm>
                <a:off x="2895480" y="4400640"/>
                <a:ext cx="5943600" cy="580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M</a:t>
                </a:r>
                <a:r>
                  <a:rPr b="1" lang="es-ES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EJORA de la actividad docente e investigadora y de la gestión de las Universidade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743200" y="4476600"/>
                <a:ext cx="152280" cy="15264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2666880" y="5181480"/>
            <a:ext cx="6248520" cy="685800"/>
            <a:chOff x="2666880" y="5181480"/>
            <a:chExt cx="6248520" cy="685800"/>
          </a:xfrm>
        </p:grpSpPr>
        <p:sp>
          <p:nvSpPr>
            <p:cNvPr id="66" name=""/>
            <p:cNvSpPr/>
            <p:nvPr/>
          </p:nvSpPr>
          <p:spPr>
            <a:xfrm>
              <a:off x="2666880" y="5181480"/>
              <a:ext cx="6248520" cy="68580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743200" y="5238720"/>
              <a:ext cx="6095880" cy="580680"/>
              <a:chOff x="2743200" y="5238720"/>
              <a:chExt cx="6095880" cy="580680"/>
            </a:xfrm>
          </p:grpSpPr>
          <p:sp>
            <p:nvSpPr>
              <p:cNvPr id="68" name=""/>
              <p:cNvSpPr/>
              <p:nvPr/>
            </p:nvSpPr>
            <p:spPr>
              <a:xfrm>
                <a:off x="2895480" y="5238720"/>
                <a:ext cx="5943600" cy="580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I</a:t>
                </a:r>
                <a:r>
                  <a:rPr b="1" lang="es-ES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NFORMACIÓN a las Administraciones </a:t>
                </a: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P</a:t>
                </a:r>
                <a:r>
                  <a:rPr b="1" lang="es-ES" sz="1600" spc="-1" strike="noStrike">
                    <a:solidFill>
                      <a:srgbClr val="0000de"/>
                    </a:solidFill>
                    <a:latin typeface="Futura Md BT"/>
                    <a:ea typeface="Times New Roman"/>
                  </a:rPr>
                  <a:t>úblicas para la toma de decisiones en el ámbito de sus competencia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743200" y="5314680"/>
                <a:ext cx="152280" cy="15264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1219320" y="533520"/>
            <a:ext cx="7924680" cy="533160"/>
            <a:chOff x="1219320" y="533520"/>
            <a:chExt cx="7924680" cy="533160"/>
          </a:xfrm>
        </p:grpSpPr>
        <p:sp>
          <p:nvSpPr>
            <p:cNvPr id="304" name=""/>
            <p:cNvSpPr/>
            <p:nvPr/>
          </p:nvSpPr>
          <p:spPr>
            <a:xfrm>
              <a:off x="1219320" y="533520"/>
              <a:ext cx="7924680" cy="53316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1311120" y="576360"/>
              <a:ext cx="5318280" cy="457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8f8f8"/>
                  </a:solidFill>
                  <a:latin typeface="Futura Md BT"/>
                </a:rPr>
                <a:t>COMPARATIVA ENTRE MODELOS</a:t>
              </a:r>
              <a:endPara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  <a:ea typeface="Futura Md BT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324480" y="632448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80880" y="2000160"/>
            <a:ext cx="8305920" cy="618840"/>
            <a:chOff x="380880" y="2000160"/>
            <a:chExt cx="8305920" cy="618840"/>
          </a:xfrm>
        </p:grpSpPr>
        <p:sp>
          <p:nvSpPr>
            <p:cNvPr id="308" name=""/>
            <p:cNvSpPr/>
            <p:nvPr/>
          </p:nvSpPr>
          <p:spPr>
            <a:xfrm>
              <a:off x="380880" y="2000160"/>
              <a:ext cx="8248680" cy="6094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566640" y="2038320"/>
              <a:ext cx="8120160" cy="580680"/>
              <a:chOff x="566640" y="2038320"/>
              <a:chExt cx="8120160" cy="580680"/>
            </a:xfrm>
          </p:grpSpPr>
          <p:sp>
            <p:nvSpPr>
              <p:cNvPr id="310" name=""/>
              <p:cNvSpPr/>
              <p:nvPr/>
            </p:nvSpPr>
            <p:spPr>
              <a:xfrm>
                <a:off x="743040" y="2038320"/>
                <a:ext cx="7943760" cy="580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ISO 9001:2000 y EFQM son sistemas de evaluación de calidad aplicables a cualquier tipo de organiz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66640" y="2141640"/>
                <a:ext cx="15264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380880" y="2752560"/>
            <a:ext cx="8305920" cy="618840"/>
            <a:chOff x="380880" y="2752560"/>
            <a:chExt cx="8305920" cy="618840"/>
          </a:xfrm>
        </p:grpSpPr>
        <p:sp>
          <p:nvSpPr>
            <p:cNvPr id="313" name=""/>
            <p:cNvSpPr/>
            <p:nvPr/>
          </p:nvSpPr>
          <p:spPr>
            <a:xfrm>
              <a:off x="380880" y="2752560"/>
              <a:ext cx="8248680" cy="6094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566640" y="2790720"/>
              <a:ext cx="8120160" cy="580680"/>
              <a:chOff x="566640" y="2790720"/>
              <a:chExt cx="8120160" cy="580680"/>
            </a:xfrm>
          </p:grpSpPr>
          <p:sp>
            <p:nvSpPr>
              <p:cNvPr id="315" name=""/>
              <p:cNvSpPr/>
              <p:nvPr/>
            </p:nvSpPr>
            <p:spPr>
              <a:xfrm>
                <a:off x="743040" y="2790720"/>
                <a:ext cx="7943760" cy="580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PEI y PA evalúan criterios específicos aplicables exclusivamente a Educación Superi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66640" y="2894040"/>
                <a:ext cx="15264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380880" y="4152960"/>
            <a:ext cx="8305920" cy="438120"/>
            <a:chOff x="380880" y="4152960"/>
            <a:chExt cx="8305920" cy="438120"/>
          </a:xfrm>
        </p:grpSpPr>
        <p:sp>
          <p:nvSpPr>
            <p:cNvPr id="318" name=""/>
            <p:cNvSpPr/>
            <p:nvPr/>
          </p:nvSpPr>
          <p:spPr>
            <a:xfrm>
              <a:off x="380880" y="4152960"/>
              <a:ext cx="8248680" cy="43812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566640" y="4191120"/>
              <a:ext cx="8120160" cy="337320"/>
              <a:chOff x="566640" y="4191120"/>
              <a:chExt cx="81201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743040" y="4191120"/>
                <a:ext cx="79437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PEI y PA evalúan titulaciones “en bloque” y no hay exclusiones permitid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66640" y="4294440"/>
                <a:ext cx="15264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380880" y="4724280"/>
            <a:ext cx="8305920" cy="628560"/>
            <a:chOff x="380880" y="4724280"/>
            <a:chExt cx="8305920" cy="628560"/>
          </a:xfrm>
        </p:grpSpPr>
        <p:sp>
          <p:nvSpPr>
            <p:cNvPr id="323" name=""/>
            <p:cNvSpPr/>
            <p:nvPr/>
          </p:nvSpPr>
          <p:spPr>
            <a:xfrm>
              <a:off x="380880" y="4724280"/>
              <a:ext cx="8248680" cy="62856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566640" y="4762440"/>
              <a:ext cx="8120160" cy="337320"/>
              <a:chOff x="566640" y="4762440"/>
              <a:chExt cx="8120160" cy="337320"/>
            </a:xfrm>
          </p:grpSpPr>
          <p:sp>
            <p:nvSpPr>
              <p:cNvPr id="325" name=""/>
              <p:cNvSpPr/>
              <p:nvPr/>
            </p:nvSpPr>
            <p:spPr>
              <a:xfrm>
                <a:off x="743040" y="4762440"/>
                <a:ext cx="79437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EFQM evalúa a la organización “en bloque” y no hay exclusiones permitid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6640" y="4865760"/>
                <a:ext cx="15264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7" name=""/>
          <p:cNvGrpSpPr/>
          <p:nvPr/>
        </p:nvGrpSpPr>
        <p:grpSpPr>
          <a:xfrm>
            <a:off x="380880" y="5486400"/>
            <a:ext cx="8305920" cy="628560"/>
            <a:chOff x="380880" y="5486400"/>
            <a:chExt cx="8305920" cy="628560"/>
          </a:xfrm>
        </p:grpSpPr>
        <p:sp>
          <p:nvSpPr>
            <p:cNvPr id="328" name=""/>
            <p:cNvSpPr/>
            <p:nvPr/>
          </p:nvSpPr>
          <p:spPr>
            <a:xfrm>
              <a:off x="380880" y="5486400"/>
              <a:ext cx="8248680" cy="62856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566640" y="5524560"/>
              <a:ext cx="8120160" cy="580680"/>
              <a:chOff x="566640" y="5524560"/>
              <a:chExt cx="8120160" cy="580680"/>
            </a:xfrm>
          </p:grpSpPr>
          <p:sp>
            <p:nvSpPr>
              <p:cNvPr id="330" name=""/>
              <p:cNvSpPr/>
              <p:nvPr/>
            </p:nvSpPr>
            <p:spPr>
              <a:xfrm>
                <a:off x="743040" y="5524560"/>
                <a:ext cx="7943760" cy="580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ISO 9001:2000 posibilita evaluaciones parciales y permite la exclusión de requisitos del apartado 7 de la norma que no sean de aplic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6640" y="5627880"/>
                <a:ext cx="15264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419040" y="1409760"/>
            <a:ext cx="8191440" cy="4597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SEGÚN ESPECIF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8120" y="3562200"/>
            <a:ext cx="8191440" cy="4597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SEGÚN 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500"/>
                            </p:stCondLst>
                            <p:childTnLst>
                              <p:par>
                                <p:cTn id="37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1219320" y="533520"/>
            <a:ext cx="7924680" cy="533160"/>
            <a:chOff x="1219320" y="533520"/>
            <a:chExt cx="7924680" cy="533160"/>
          </a:xfrm>
        </p:grpSpPr>
        <p:sp>
          <p:nvSpPr>
            <p:cNvPr id="335" name=""/>
            <p:cNvSpPr/>
            <p:nvPr/>
          </p:nvSpPr>
          <p:spPr>
            <a:xfrm>
              <a:off x="1219320" y="533520"/>
              <a:ext cx="7924680" cy="53316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1311120" y="576360"/>
              <a:ext cx="5318280" cy="457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8f8f8"/>
                  </a:solidFill>
                  <a:latin typeface="Futura Md BT"/>
                </a:rPr>
                <a:t>COMPARATIVA ENTRE MODELOS</a:t>
              </a:r>
              <a:endPara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  <a:ea typeface="Futura Md BT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6324480" y="632448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90400" y="1962000"/>
            <a:ext cx="8305920" cy="618840"/>
            <a:chOff x="590400" y="1962000"/>
            <a:chExt cx="8305920" cy="618840"/>
          </a:xfrm>
        </p:grpSpPr>
        <p:sp>
          <p:nvSpPr>
            <p:cNvPr id="339" name=""/>
            <p:cNvSpPr/>
            <p:nvPr/>
          </p:nvSpPr>
          <p:spPr>
            <a:xfrm>
              <a:off x="590400" y="1962000"/>
              <a:ext cx="8248680" cy="6094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776160" y="2000160"/>
              <a:ext cx="8120160" cy="580680"/>
              <a:chOff x="776160" y="2000160"/>
              <a:chExt cx="8120160" cy="580680"/>
            </a:xfrm>
          </p:grpSpPr>
          <p:sp>
            <p:nvSpPr>
              <p:cNvPr id="341" name=""/>
              <p:cNvSpPr/>
              <p:nvPr/>
            </p:nvSpPr>
            <p:spPr>
              <a:xfrm>
                <a:off x="952560" y="2000160"/>
                <a:ext cx="7943760" cy="580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Los tres modelos se basan en EVIDENCIAR el cumplimiento de los requisitos especificados a través de un enfoque de mejor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76160" y="2103480"/>
                <a:ext cx="15264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"/>
          <p:cNvGrpSpPr/>
          <p:nvPr/>
        </p:nvGrpSpPr>
        <p:grpSpPr>
          <a:xfrm>
            <a:off x="590400" y="2714760"/>
            <a:ext cx="8305920" cy="618480"/>
            <a:chOff x="590400" y="2714760"/>
            <a:chExt cx="8305920" cy="618480"/>
          </a:xfrm>
        </p:grpSpPr>
        <p:sp>
          <p:nvSpPr>
            <p:cNvPr id="344" name=""/>
            <p:cNvSpPr/>
            <p:nvPr/>
          </p:nvSpPr>
          <p:spPr>
            <a:xfrm>
              <a:off x="590400" y="2714760"/>
              <a:ext cx="8248680" cy="60912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76160" y="2752560"/>
              <a:ext cx="8120160" cy="580680"/>
              <a:chOff x="776160" y="2752560"/>
              <a:chExt cx="8120160" cy="580680"/>
            </a:xfrm>
          </p:grpSpPr>
          <p:sp>
            <p:nvSpPr>
              <p:cNvPr id="346" name=""/>
              <p:cNvSpPr/>
              <p:nvPr/>
            </p:nvSpPr>
            <p:spPr>
              <a:xfrm>
                <a:off x="952560" y="2752560"/>
                <a:ext cx="7943760" cy="580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Para su efectiva implantación es necesaria la implicación de TODO el perso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76160" y="2855520"/>
                <a:ext cx="152640" cy="1519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590400" y="3448080"/>
            <a:ext cx="8305920" cy="858960"/>
            <a:chOff x="590400" y="3448080"/>
            <a:chExt cx="8305920" cy="858960"/>
          </a:xfrm>
        </p:grpSpPr>
        <p:sp>
          <p:nvSpPr>
            <p:cNvPr id="349" name=""/>
            <p:cNvSpPr/>
            <p:nvPr/>
          </p:nvSpPr>
          <p:spPr>
            <a:xfrm>
              <a:off x="590400" y="3448080"/>
              <a:ext cx="8248680" cy="85752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776160" y="3483000"/>
              <a:ext cx="8120160" cy="824040"/>
              <a:chOff x="776160" y="3483000"/>
              <a:chExt cx="8120160" cy="824040"/>
            </a:xfrm>
          </p:grpSpPr>
          <p:sp>
            <p:nvSpPr>
              <p:cNvPr id="351" name=""/>
              <p:cNvSpPr/>
              <p:nvPr/>
            </p:nvSpPr>
            <p:spPr>
              <a:xfrm>
                <a:off x="952560" y="3483000"/>
                <a:ext cx="794376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ISO 9001:2000 es un sistema documental que exige a la organización la DOCUMENTACIÓN de las metodologías de actuación para el cumplimiento de los requisi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76160" y="3577680"/>
                <a:ext cx="15264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590400" y="4457880"/>
            <a:ext cx="8305920" cy="914400"/>
            <a:chOff x="590400" y="4457880"/>
            <a:chExt cx="8305920" cy="914400"/>
          </a:xfrm>
        </p:grpSpPr>
        <p:sp>
          <p:nvSpPr>
            <p:cNvPr id="354" name=""/>
            <p:cNvSpPr/>
            <p:nvPr/>
          </p:nvSpPr>
          <p:spPr>
            <a:xfrm>
              <a:off x="590400" y="4457880"/>
              <a:ext cx="8248680" cy="91440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776160" y="4496040"/>
              <a:ext cx="8120160" cy="824040"/>
              <a:chOff x="776160" y="4496040"/>
              <a:chExt cx="8120160" cy="824040"/>
            </a:xfrm>
          </p:grpSpPr>
          <p:sp>
            <p:nvSpPr>
              <p:cNvPr id="356" name=""/>
              <p:cNvSpPr/>
              <p:nvPr/>
            </p:nvSpPr>
            <p:spPr>
              <a:xfrm>
                <a:off x="952560" y="4496040"/>
                <a:ext cx="794376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PEI, PA y EFQM no exigen la documentación de metodologías, pero sí la emisión de un Informe de Evaluación o Memoria para evidenciar el cumplimiento de los requisi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6160" y="4599360"/>
                <a:ext cx="15264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628560" y="1371600"/>
            <a:ext cx="8191440" cy="4597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SEGÚN METODOLOGÍA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590400" y="5505480"/>
            <a:ext cx="8305920" cy="914400"/>
            <a:chOff x="590400" y="5505480"/>
            <a:chExt cx="8305920" cy="914400"/>
          </a:xfrm>
        </p:grpSpPr>
        <p:sp>
          <p:nvSpPr>
            <p:cNvPr id="360" name=""/>
            <p:cNvSpPr/>
            <p:nvPr/>
          </p:nvSpPr>
          <p:spPr>
            <a:xfrm>
              <a:off x="590400" y="5505480"/>
              <a:ext cx="8248680" cy="91440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776160" y="5543640"/>
              <a:ext cx="8120160" cy="824040"/>
              <a:chOff x="776160" y="5543640"/>
              <a:chExt cx="8120160" cy="824040"/>
            </a:xfrm>
          </p:grpSpPr>
          <p:sp>
            <p:nvSpPr>
              <p:cNvPr id="362" name=""/>
              <p:cNvSpPr/>
              <p:nvPr/>
            </p:nvSpPr>
            <p:spPr>
              <a:xfrm>
                <a:off x="952560" y="5543640"/>
                <a:ext cx="794376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ISO 9001:2000 exige a las organizaciones que lo implantan el desarrollo de una metodología de identificación y tratamiento de situaciones de NO CONFORM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6160" y="5646960"/>
                <a:ext cx="15264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500"/>
                            </p:stCondLst>
                            <p:childTnLst>
                              <p:par>
                                <p:cTn id="4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1219320" y="533520"/>
            <a:ext cx="7924680" cy="533160"/>
            <a:chOff x="1219320" y="533520"/>
            <a:chExt cx="7924680" cy="533160"/>
          </a:xfrm>
        </p:grpSpPr>
        <p:sp>
          <p:nvSpPr>
            <p:cNvPr id="365" name=""/>
            <p:cNvSpPr/>
            <p:nvPr/>
          </p:nvSpPr>
          <p:spPr>
            <a:xfrm>
              <a:off x="1219320" y="533520"/>
              <a:ext cx="7924680" cy="53316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1311120" y="576360"/>
              <a:ext cx="5318280" cy="457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8f8f8"/>
                  </a:solidFill>
                  <a:latin typeface="Futura Md BT"/>
                </a:rPr>
                <a:t>COMPARATIVA ENTRE MODELOS</a:t>
              </a:r>
              <a:endPara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  <a:ea typeface="Futura Md BT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33520" y="2057400"/>
            <a:ext cx="8305200" cy="895320"/>
            <a:chOff x="533520" y="2057400"/>
            <a:chExt cx="8305200" cy="895320"/>
          </a:xfrm>
        </p:grpSpPr>
        <p:sp>
          <p:nvSpPr>
            <p:cNvPr id="369" name=""/>
            <p:cNvSpPr/>
            <p:nvPr/>
          </p:nvSpPr>
          <p:spPr>
            <a:xfrm>
              <a:off x="533520" y="2057400"/>
              <a:ext cx="8248680" cy="89532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719280" y="2095560"/>
              <a:ext cx="8119440" cy="824040"/>
              <a:chOff x="719280" y="2095560"/>
              <a:chExt cx="8119440" cy="824040"/>
            </a:xfrm>
          </p:grpSpPr>
          <p:sp>
            <p:nvSpPr>
              <p:cNvPr id="371" name=""/>
              <p:cNvSpPr/>
              <p:nvPr/>
            </p:nvSpPr>
            <p:spPr>
              <a:xfrm>
                <a:off x="895320" y="2095560"/>
                <a:ext cx="794340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Los tres modelos solicitan la realización de un chequeo interno previo a la evaluación por terceros: Auditoría interna para ISO 9001:2000 y autoevaluaciones para EFQM, PEI y P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19280" y="219888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3" name=""/>
          <p:cNvGrpSpPr/>
          <p:nvPr/>
        </p:nvGrpSpPr>
        <p:grpSpPr>
          <a:xfrm>
            <a:off x="533520" y="3124080"/>
            <a:ext cx="8305200" cy="862200"/>
            <a:chOff x="533520" y="3124080"/>
            <a:chExt cx="8305200" cy="862200"/>
          </a:xfrm>
        </p:grpSpPr>
        <p:sp>
          <p:nvSpPr>
            <p:cNvPr id="374" name=""/>
            <p:cNvSpPr/>
            <p:nvPr/>
          </p:nvSpPr>
          <p:spPr>
            <a:xfrm>
              <a:off x="533520" y="3124080"/>
              <a:ext cx="8248680" cy="8380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19280" y="3162240"/>
              <a:ext cx="8119440" cy="824040"/>
              <a:chOff x="719280" y="3162240"/>
              <a:chExt cx="8119440" cy="824040"/>
            </a:xfrm>
          </p:grpSpPr>
          <p:sp>
            <p:nvSpPr>
              <p:cNvPr id="376" name=""/>
              <p:cNvSpPr/>
              <p:nvPr/>
            </p:nvSpPr>
            <p:spPr>
              <a:xfrm>
                <a:off x="895320" y="3162240"/>
                <a:ext cx="794340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La evaluación de PEI, PA y EFQM se basan en la revisión inicial de un Informe de Autoevaluación o Memoria y en la realización posterior de una evaluación </a:t>
                </a:r>
                <a:r>
                  <a:rPr b="1" i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in sit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19280" y="326556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8" name=""/>
          <p:cNvGrpSpPr/>
          <p:nvPr/>
        </p:nvGrpSpPr>
        <p:grpSpPr>
          <a:xfrm>
            <a:off x="533520" y="4114800"/>
            <a:ext cx="8305200" cy="1102320"/>
            <a:chOff x="533520" y="4114800"/>
            <a:chExt cx="8305200" cy="1102320"/>
          </a:xfrm>
        </p:grpSpPr>
        <p:sp>
          <p:nvSpPr>
            <p:cNvPr id="379" name=""/>
            <p:cNvSpPr/>
            <p:nvPr/>
          </p:nvSpPr>
          <p:spPr>
            <a:xfrm>
              <a:off x="533520" y="411480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719280" y="4149720"/>
              <a:ext cx="8119440" cy="1067400"/>
              <a:chOff x="719280" y="4149720"/>
              <a:chExt cx="8119440" cy="1067400"/>
            </a:xfrm>
          </p:grpSpPr>
          <p:sp>
            <p:nvSpPr>
              <p:cNvPr id="381" name=""/>
              <p:cNvSpPr/>
              <p:nvPr/>
            </p:nvSpPr>
            <p:spPr>
              <a:xfrm>
                <a:off x="895320" y="4149720"/>
                <a:ext cx="7943400" cy="1067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La evaluación del cumplimiento de los requisitos establecidos por ISO 9001:2000 se realiza de forma cualitativa, determinándose 4 niveles de cumplimiento: Cumplimiento del requisito, observación, NC Menor y NC May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19280" y="424440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533520" y="5372280"/>
            <a:ext cx="8304840" cy="914400"/>
            <a:chOff x="533520" y="5372280"/>
            <a:chExt cx="8304840" cy="914400"/>
          </a:xfrm>
        </p:grpSpPr>
        <p:sp>
          <p:nvSpPr>
            <p:cNvPr id="384" name=""/>
            <p:cNvSpPr/>
            <p:nvPr/>
          </p:nvSpPr>
          <p:spPr>
            <a:xfrm>
              <a:off x="533520" y="5372280"/>
              <a:ext cx="8248320" cy="91440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718920" y="5410440"/>
              <a:ext cx="8119440" cy="824040"/>
              <a:chOff x="718920" y="5410440"/>
              <a:chExt cx="8119440" cy="824040"/>
            </a:xfrm>
          </p:grpSpPr>
          <p:sp>
            <p:nvSpPr>
              <p:cNvPr id="386" name=""/>
              <p:cNvSpPr/>
              <p:nvPr/>
            </p:nvSpPr>
            <p:spPr>
              <a:xfrm>
                <a:off x="894960" y="5410440"/>
                <a:ext cx="794340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La evaluación del cumplimiento de los requisitos establecidos por EFQM se realiza de forma cuantitativa, obteniéndose una puntuación por subcriterio hasta un máximo de 1000 pun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18920" y="551376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8" name=""/>
          <p:cNvSpPr/>
          <p:nvPr/>
        </p:nvSpPr>
        <p:spPr>
          <a:xfrm>
            <a:off x="571680" y="1447920"/>
            <a:ext cx="8191440" cy="4597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SEGÚN METODOLOGÍA DE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500"/>
                            </p:stCondLst>
                            <p:childTnLst>
                              <p:par>
                                <p:cTn id="4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219320" y="533520"/>
            <a:ext cx="7924680" cy="533160"/>
            <a:chOff x="1219320" y="533520"/>
            <a:chExt cx="7924680" cy="533160"/>
          </a:xfrm>
        </p:grpSpPr>
        <p:sp>
          <p:nvSpPr>
            <p:cNvPr id="390" name=""/>
            <p:cNvSpPr/>
            <p:nvPr/>
          </p:nvSpPr>
          <p:spPr>
            <a:xfrm>
              <a:off x="1219320" y="533520"/>
              <a:ext cx="7924680" cy="53316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>
              <a:off x="1311120" y="576360"/>
              <a:ext cx="5318280" cy="457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8f8f8"/>
                  </a:solidFill>
                  <a:latin typeface="Futura Md BT"/>
                </a:rPr>
                <a:t>COMPARATIVA ENTRE MODELOS</a:t>
              </a:r>
              <a:endPara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  <a:ea typeface="Futura Md BT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324480" y="632448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33520" y="1905120"/>
            <a:ext cx="8305200" cy="685800"/>
            <a:chOff x="533520" y="1905120"/>
            <a:chExt cx="8305200" cy="685800"/>
          </a:xfrm>
        </p:grpSpPr>
        <p:sp>
          <p:nvSpPr>
            <p:cNvPr id="394" name=""/>
            <p:cNvSpPr/>
            <p:nvPr/>
          </p:nvSpPr>
          <p:spPr>
            <a:xfrm>
              <a:off x="533520" y="1905120"/>
              <a:ext cx="8248680" cy="68580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719280" y="1934280"/>
              <a:ext cx="8119440" cy="580680"/>
              <a:chOff x="719280" y="1934280"/>
              <a:chExt cx="8119440" cy="580680"/>
            </a:xfrm>
          </p:grpSpPr>
          <p:sp>
            <p:nvSpPr>
              <p:cNvPr id="396" name=""/>
              <p:cNvSpPr/>
              <p:nvPr/>
            </p:nvSpPr>
            <p:spPr>
              <a:xfrm>
                <a:off x="895320" y="1934280"/>
                <a:ext cx="7943400" cy="580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La evaluación del cumplimiento de los requisitos establecidos por PEI y PA se realiza de forma cualitativa y semicuantitativa (A, B, C, D y E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19280" y="2013120"/>
                <a:ext cx="152280" cy="116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533520" y="2717640"/>
            <a:ext cx="8305200" cy="862200"/>
            <a:chOff x="533520" y="2717640"/>
            <a:chExt cx="8305200" cy="862200"/>
          </a:xfrm>
        </p:grpSpPr>
        <p:sp>
          <p:nvSpPr>
            <p:cNvPr id="399" name=""/>
            <p:cNvSpPr/>
            <p:nvPr/>
          </p:nvSpPr>
          <p:spPr>
            <a:xfrm>
              <a:off x="533520" y="2717640"/>
              <a:ext cx="8248680" cy="8380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719280" y="2755800"/>
              <a:ext cx="8119440" cy="824040"/>
              <a:chOff x="719280" y="2755800"/>
              <a:chExt cx="8119440" cy="824040"/>
            </a:xfrm>
          </p:grpSpPr>
          <p:sp>
            <p:nvSpPr>
              <p:cNvPr id="401" name=""/>
              <p:cNvSpPr/>
              <p:nvPr/>
            </p:nvSpPr>
            <p:spPr>
              <a:xfrm>
                <a:off x="895320" y="2755800"/>
                <a:ext cx="794340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Estándar mínimo en ISO 9001:2000: Obtención de un número de NC que asegure la conformidad del sistema, tras lo que no hay categorización de empres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19280" y="285912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533520" y="3714840"/>
            <a:ext cx="8305200" cy="391320"/>
            <a:chOff x="533520" y="3714840"/>
            <a:chExt cx="8305200" cy="391320"/>
          </a:xfrm>
        </p:grpSpPr>
        <p:sp>
          <p:nvSpPr>
            <p:cNvPr id="404" name=""/>
            <p:cNvSpPr/>
            <p:nvPr/>
          </p:nvSpPr>
          <p:spPr>
            <a:xfrm>
              <a:off x="533520" y="3714840"/>
              <a:ext cx="8248680" cy="38124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719280" y="3768840"/>
              <a:ext cx="8119440" cy="337320"/>
              <a:chOff x="719280" y="3768840"/>
              <a:chExt cx="8119440" cy="337320"/>
            </a:xfrm>
          </p:grpSpPr>
          <p:sp>
            <p:nvSpPr>
              <p:cNvPr id="406" name=""/>
              <p:cNvSpPr/>
              <p:nvPr/>
            </p:nvSpPr>
            <p:spPr>
              <a:xfrm>
                <a:off x="895320" y="3768840"/>
                <a:ext cx="79434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Estándar mínimo en EFQM: Obtención de 200 puntos en la Autoevalu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9280" y="386352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"/>
          <p:cNvGrpSpPr/>
          <p:nvPr/>
        </p:nvGrpSpPr>
        <p:grpSpPr>
          <a:xfrm>
            <a:off x="533520" y="4248000"/>
            <a:ext cx="8305200" cy="380880"/>
            <a:chOff x="533520" y="4248000"/>
            <a:chExt cx="8305200" cy="380880"/>
          </a:xfrm>
        </p:grpSpPr>
        <p:sp>
          <p:nvSpPr>
            <p:cNvPr id="409" name=""/>
            <p:cNvSpPr/>
            <p:nvPr/>
          </p:nvSpPr>
          <p:spPr>
            <a:xfrm>
              <a:off x="533520" y="4248000"/>
              <a:ext cx="8248680" cy="3808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719280" y="4286160"/>
              <a:ext cx="8119440" cy="337320"/>
              <a:chOff x="719280" y="4286160"/>
              <a:chExt cx="8119440" cy="337320"/>
            </a:xfrm>
          </p:grpSpPr>
          <p:sp>
            <p:nvSpPr>
              <p:cNvPr id="411" name=""/>
              <p:cNvSpPr/>
              <p:nvPr/>
            </p:nvSpPr>
            <p:spPr>
              <a:xfrm>
                <a:off x="895320" y="4286160"/>
                <a:ext cx="79434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Estándar mínimo en PEI y PA: No defini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19280" y="4389120"/>
                <a:ext cx="152280" cy="1519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3" name=""/>
          <p:cNvSpPr/>
          <p:nvPr/>
        </p:nvSpPr>
        <p:spPr>
          <a:xfrm>
            <a:off x="571680" y="1314360"/>
            <a:ext cx="8191440" cy="4597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SEGÚN METODOLOGÍA DE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33520" y="4800600"/>
            <a:ext cx="8305200" cy="618840"/>
            <a:chOff x="533520" y="4800600"/>
            <a:chExt cx="8305200" cy="618840"/>
          </a:xfrm>
        </p:grpSpPr>
        <p:sp>
          <p:nvSpPr>
            <p:cNvPr id="415" name=""/>
            <p:cNvSpPr/>
            <p:nvPr/>
          </p:nvSpPr>
          <p:spPr>
            <a:xfrm>
              <a:off x="533520" y="4800600"/>
              <a:ext cx="8248680" cy="60984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719280" y="4838760"/>
              <a:ext cx="8119440" cy="580680"/>
              <a:chOff x="719280" y="4838760"/>
              <a:chExt cx="8119440" cy="580680"/>
            </a:xfrm>
          </p:grpSpPr>
          <p:sp>
            <p:nvSpPr>
              <p:cNvPr id="417" name=""/>
              <p:cNvSpPr/>
              <p:nvPr/>
            </p:nvSpPr>
            <p:spPr>
              <a:xfrm>
                <a:off x="895320" y="4838760"/>
                <a:ext cx="7943400" cy="580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Auditores de ISO 9001:2000: Organismos de Certificación acreditados por ENAC (21). Equipo auditor con especialis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19280" y="494208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533520" y="5553000"/>
            <a:ext cx="8305200" cy="862200"/>
            <a:chOff x="533520" y="5553000"/>
            <a:chExt cx="8305200" cy="862200"/>
          </a:xfrm>
        </p:grpSpPr>
        <p:sp>
          <p:nvSpPr>
            <p:cNvPr id="420" name=""/>
            <p:cNvSpPr/>
            <p:nvPr/>
          </p:nvSpPr>
          <p:spPr>
            <a:xfrm>
              <a:off x="533520" y="5553000"/>
              <a:ext cx="8248680" cy="84780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719280" y="5591160"/>
              <a:ext cx="8119440" cy="824040"/>
              <a:chOff x="719280" y="5591160"/>
              <a:chExt cx="8119440" cy="824040"/>
            </a:xfrm>
          </p:grpSpPr>
          <p:sp>
            <p:nvSpPr>
              <p:cNvPr id="422" name=""/>
              <p:cNvSpPr/>
              <p:nvPr/>
            </p:nvSpPr>
            <p:spPr>
              <a:xfrm>
                <a:off x="895320" y="5591160"/>
                <a:ext cx="794340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Evaluadores EFQM: Organismos de certificación españoles reconocidos por EFQM y Club Gestión de Calidad (AENOR, SGS, BVQI, LRQA Y TÜV). Equipo evaluador con especialis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19280" y="569448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500"/>
                            </p:stCondLst>
                            <p:childTnLst>
                              <p:par>
                                <p:cTn id="49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500"/>
                            </p:stCondLst>
                            <p:childTnLst>
                              <p:par>
                                <p:cTn id="5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1219320" y="533520"/>
            <a:ext cx="7924680" cy="533160"/>
            <a:chOff x="1219320" y="533520"/>
            <a:chExt cx="7924680" cy="533160"/>
          </a:xfrm>
        </p:grpSpPr>
        <p:sp>
          <p:nvSpPr>
            <p:cNvPr id="425" name=""/>
            <p:cNvSpPr/>
            <p:nvPr/>
          </p:nvSpPr>
          <p:spPr>
            <a:xfrm>
              <a:off x="1219320" y="533520"/>
              <a:ext cx="7924680" cy="53316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1311120" y="576360"/>
              <a:ext cx="5318280" cy="457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8f8f8"/>
                  </a:solidFill>
                  <a:latin typeface="Futura Md BT"/>
                </a:rPr>
                <a:t>COMPARATIVA ENTRE MODELOS</a:t>
              </a:r>
              <a:endPara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  <a:ea typeface="Futura Md BT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33520" y="1905120"/>
            <a:ext cx="8305200" cy="685800"/>
            <a:chOff x="533520" y="1905120"/>
            <a:chExt cx="8305200" cy="685800"/>
          </a:xfrm>
        </p:grpSpPr>
        <p:sp>
          <p:nvSpPr>
            <p:cNvPr id="429" name=""/>
            <p:cNvSpPr/>
            <p:nvPr/>
          </p:nvSpPr>
          <p:spPr>
            <a:xfrm>
              <a:off x="533520" y="1905120"/>
              <a:ext cx="8248680" cy="68580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719280" y="1933560"/>
              <a:ext cx="8119440" cy="580680"/>
              <a:chOff x="719280" y="1933560"/>
              <a:chExt cx="8119440" cy="580680"/>
            </a:xfrm>
          </p:grpSpPr>
          <p:sp>
            <p:nvSpPr>
              <p:cNvPr id="431" name=""/>
              <p:cNvSpPr/>
              <p:nvPr/>
            </p:nvSpPr>
            <p:spPr>
              <a:xfrm>
                <a:off x="895320" y="1933560"/>
                <a:ext cx="7943400" cy="580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Evaluadores de PEI y Auditores de PA: ANECA. Equipo auditor/evaluador mix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19280" y="2012760"/>
                <a:ext cx="152280" cy="11700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"/>
          <p:cNvSpPr/>
          <p:nvPr/>
        </p:nvSpPr>
        <p:spPr>
          <a:xfrm>
            <a:off x="571680" y="1352520"/>
            <a:ext cx="8191440" cy="4597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SEGÚN METODOLOGÍA DE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33520" y="6010200"/>
            <a:ext cx="8305200" cy="466560"/>
            <a:chOff x="533520" y="6010200"/>
            <a:chExt cx="8305200" cy="466560"/>
          </a:xfrm>
        </p:grpSpPr>
        <p:sp>
          <p:nvSpPr>
            <p:cNvPr id="435" name=""/>
            <p:cNvSpPr/>
            <p:nvPr/>
          </p:nvSpPr>
          <p:spPr>
            <a:xfrm>
              <a:off x="533520" y="6010200"/>
              <a:ext cx="8248680" cy="46656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719280" y="6048000"/>
              <a:ext cx="8119440" cy="337320"/>
              <a:chOff x="719280" y="6048000"/>
              <a:chExt cx="8119440" cy="337320"/>
            </a:xfrm>
          </p:grpSpPr>
          <p:sp>
            <p:nvSpPr>
              <p:cNvPr id="437" name=""/>
              <p:cNvSpPr/>
              <p:nvPr/>
            </p:nvSpPr>
            <p:spPr>
              <a:xfrm>
                <a:off x="895320" y="6048000"/>
                <a:ext cx="79434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PEI y PA: Informe Fi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19280" y="6153120"/>
                <a:ext cx="152280" cy="15516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9" name=""/>
          <p:cNvSpPr/>
          <p:nvPr/>
        </p:nvSpPr>
        <p:spPr>
          <a:xfrm>
            <a:off x="571680" y="2743200"/>
            <a:ext cx="8191440" cy="4597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SEGÚN 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33520" y="3352680"/>
            <a:ext cx="8305200" cy="1143000"/>
            <a:chOff x="533520" y="3352680"/>
            <a:chExt cx="8305200" cy="1143000"/>
          </a:xfrm>
        </p:grpSpPr>
        <p:sp>
          <p:nvSpPr>
            <p:cNvPr id="441" name=""/>
            <p:cNvSpPr/>
            <p:nvPr/>
          </p:nvSpPr>
          <p:spPr>
            <a:xfrm>
              <a:off x="533520" y="3352680"/>
              <a:ext cx="8248680" cy="114300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719280" y="3406680"/>
              <a:ext cx="8119440" cy="337320"/>
              <a:chOff x="719280" y="3406680"/>
              <a:chExt cx="8119440" cy="337320"/>
            </a:xfrm>
          </p:grpSpPr>
          <p:sp>
            <p:nvSpPr>
              <p:cNvPr id="443" name=""/>
              <p:cNvSpPr/>
              <p:nvPr/>
            </p:nvSpPr>
            <p:spPr>
              <a:xfrm>
                <a:off x="895320" y="3406680"/>
                <a:ext cx="79434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ISO 9001:2000: Certificados de Entidades de Certific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19280" y="350136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45" name="aenor" descr=""/>
            <p:cNvPicPr/>
            <p:nvPr/>
          </p:nvPicPr>
          <p:blipFill>
            <a:blip r:embed="rId2"/>
            <a:stretch/>
          </p:blipFill>
          <p:spPr>
            <a:xfrm>
              <a:off x="1828800" y="3733920"/>
              <a:ext cx="41580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selo_bvqi1" descr=""/>
            <p:cNvPicPr/>
            <p:nvPr/>
          </p:nvPicPr>
          <p:blipFill>
            <a:blip r:embed="rId3"/>
            <a:stretch/>
          </p:blipFill>
          <p:spPr>
            <a:xfrm>
              <a:off x="3505320" y="3676680"/>
              <a:ext cx="92376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certificado lloyd's" descr=""/>
            <p:cNvPicPr/>
            <p:nvPr/>
          </p:nvPicPr>
          <p:blipFill>
            <a:blip r:embed="rId4"/>
            <a:stretch/>
          </p:blipFill>
          <p:spPr>
            <a:xfrm>
              <a:off x="4648320" y="3809880"/>
              <a:ext cx="523800" cy="5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dnv" descr=""/>
            <p:cNvPicPr/>
            <p:nvPr/>
          </p:nvPicPr>
          <p:blipFill>
            <a:blip r:embed="rId5"/>
            <a:stretch/>
          </p:blipFill>
          <p:spPr>
            <a:xfrm>
              <a:off x="5486400" y="3809880"/>
              <a:ext cx="426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certificado sgs" descr=""/>
            <p:cNvPicPr/>
            <p:nvPr/>
          </p:nvPicPr>
          <p:blipFill>
            <a:blip r:embed="rId6"/>
            <a:stretch/>
          </p:blipFill>
          <p:spPr>
            <a:xfrm>
              <a:off x="2590920" y="3733920"/>
              <a:ext cx="6253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logo_tuv" descr=""/>
            <p:cNvPicPr/>
            <p:nvPr/>
          </p:nvPicPr>
          <p:blipFill>
            <a:blip r:embed="rId7"/>
            <a:stretch/>
          </p:blipFill>
          <p:spPr>
            <a:xfrm>
              <a:off x="6172200" y="3886200"/>
              <a:ext cx="755640" cy="37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1" name=""/>
          <p:cNvGrpSpPr/>
          <p:nvPr/>
        </p:nvGrpSpPr>
        <p:grpSpPr>
          <a:xfrm>
            <a:off x="533520" y="4648320"/>
            <a:ext cx="8305200" cy="1218960"/>
            <a:chOff x="533520" y="4648320"/>
            <a:chExt cx="8305200" cy="1218960"/>
          </a:xfrm>
        </p:grpSpPr>
        <p:sp>
          <p:nvSpPr>
            <p:cNvPr id="452" name=""/>
            <p:cNvSpPr/>
            <p:nvPr/>
          </p:nvSpPr>
          <p:spPr>
            <a:xfrm>
              <a:off x="533520" y="4648320"/>
              <a:ext cx="8248680" cy="121896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719280" y="4686480"/>
              <a:ext cx="8119440" cy="580680"/>
              <a:chOff x="719280" y="4686480"/>
              <a:chExt cx="8119440" cy="580680"/>
            </a:xfrm>
          </p:grpSpPr>
          <p:sp>
            <p:nvSpPr>
              <p:cNvPr id="454" name=""/>
              <p:cNvSpPr/>
              <p:nvPr/>
            </p:nvSpPr>
            <p:spPr>
              <a:xfrm>
                <a:off x="895320" y="4686480"/>
                <a:ext cx="7943400" cy="580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de"/>
                    </a:solidFill>
                    <a:latin typeface="Futura Md BT"/>
                  </a:rPr>
                  <a:t>EFQM: Nivel Calidad Europea con 2001-400 puntos (Bronce), Nivel Consolidación con 401-500 (Plata) y Nivel Excelencia a partir de 500 (Oro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19280" y="4789440"/>
                <a:ext cx="152280" cy="1519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56" name="" descr=""/>
            <p:cNvPicPr/>
            <p:nvPr/>
          </p:nvPicPr>
          <p:blipFill>
            <a:blip r:embed="rId8"/>
            <a:stretch/>
          </p:blipFill>
          <p:spPr>
            <a:xfrm>
              <a:off x="4471920" y="5257800"/>
              <a:ext cx="3682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53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3500"/>
                            </p:stCondLst>
                            <p:childTnLst>
                              <p:par>
                                <p:cTn id="5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e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219320" y="533520"/>
            <a:ext cx="7924680" cy="547560"/>
            <a:chOff x="1219320" y="533520"/>
            <a:chExt cx="7924680" cy="547560"/>
          </a:xfrm>
        </p:grpSpPr>
        <p:sp>
          <p:nvSpPr>
            <p:cNvPr id="458" name=""/>
            <p:cNvSpPr/>
            <p:nvPr/>
          </p:nvSpPr>
          <p:spPr>
            <a:xfrm>
              <a:off x="1219320" y="547920"/>
              <a:ext cx="7924680" cy="53316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1311120" y="533520"/>
              <a:ext cx="6384960" cy="457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8f8f8"/>
                  </a:solidFill>
                  <a:latin typeface="Futura Md BT"/>
                </a:rPr>
                <a:t>LA REALIDAD EN LAS UNIVERSIDADES ESPAÑOLAS</a:t>
              </a:r>
              <a:endPara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  <a:ea typeface="Futura Md BT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324480" y="6477120"/>
            <a:ext cx="2819520" cy="30456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28600" y="1390680"/>
            <a:ext cx="1981080" cy="1290600"/>
          </a:xfrm>
          <a:prstGeom prst="rect">
            <a:avLst/>
          </a:prstGeom>
          <a:ln w="0">
            <a:noFill/>
          </a:ln>
        </p:spPr>
      </p:pic>
      <p:grpSp>
        <p:nvGrpSpPr>
          <p:cNvPr id="462" name=""/>
          <p:cNvGrpSpPr/>
          <p:nvPr/>
        </p:nvGrpSpPr>
        <p:grpSpPr>
          <a:xfrm>
            <a:off x="1828800" y="1295280"/>
            <a:ext cx="3573360" cy="1622160"/>
            <a:chOff x="1828800" y="1295280"/>
            <a:chExt cx="3573360" cy="1622160"/>
          </a:xfrm>
        </p:grpSpPr>
        <p:sp>
          <p:nvSpPr>
            <p:cNvPr id="463" name=""/>
            <p:cNvSpPr/>
            <p:nvPr/>
          </p:nvSpPr>
          <p:spPr>
            <a:xfrm>
              <a:off x="3867120" y="1552320"/>
              <a:ext cx="1006560" cy="273240"/>
            </a:xfrm>
            <a:custGeom>
              <a:avLst/>
              <a:gdLst/>
              <a:ahLst/>
              <a:rect l="l" t="t" r="r" b="b"/>
              <a:pathLst>
                <a:path w="634" h="172">
                  <a:moveTo>
                    <a:pt x="0" y="0"/>
                  </a:moveTo>
                  <a:lnTo>
                    <a:pt x="29" y="0"/>
                  </a:lnTo>
                  <a:lnTo>
                    <a:pt x="52" y="0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49" y="0"/>
                  </a:lnTo>
                  <a:lnTo>
                    <a:pt x="171" y="8"/>
                  </a:lnTo>
                  <a:lnTo>
                    <a:pt x="201" y="8"/>
                  </a:lnTo>
                  <a:lnTo>
                    <a:pt x="224" y="8"/>
                  </a:lnTo>
                  <a:lnTo>
                    <a:pt x="253" y="15"/>
                  </a:lnTo>
                  <a:lnTo>
                    <a:pt x="276" y="15"/>
                  </a:lnTo>
                  <a:lnTo>
                    <a:pt x="306" y="15"/>
                  </a:lnTo>
                  <a:lnTo>
                    <a:pt x="328" y="23"/>
                  </a:lnTo>
                  <a:lnTo>
                    <a:pt x="358" y="23"/>
                  </a:lnTo>
                  <a:lnTo>
                    <a:pt x="373" y="30"/>
                  </a:lnTo>
                  <a:lnTo>
                    <a:pt x="403" y="38"/>
                  </a:lnTo>
                  <a:lnTo>
                    <a:pt x="425" y="38"/>
                  </a:lnTo>
                  <a:lnTo>
                    <a:pt x="448" y="45"/>
                  </a:lnTo>
                  <a:lnTo>
                    <a:pt x="470" y="53"/>
                  </a:lnTo>
                  <a:lnTo>
                    <a:pt x="485" y="53"/>
                  </a:lnTo>
                  <a:lnTo>
                    <a:pt x="507" y="60"/>
                  </a:lnTo>
                  <a:lnTo>
                    <a:pt x="522" y="67"/>
                  </a:lnTo>
                  <a:lnTo>
                    <a:pt x="545" y="75"/>
                  </a:lnTo>
                  <a:lnTo>
                    <a:pt x="552" y="82"/>
                  </a:lnTo>
                  <a:lnTo>
                    <a:pt x="574" y="90"/>
                  </a:lnTo>
                  <a:lnTo>
                    <a:pt x="582" y="90"/>
                  </a:lnTo>
                  <a:lnTo>
                    <a:pt x="597" y="97"/>
                  </a:lnTo>
                  <a:lnTo>
                    <a:pt x="604" y="105"/>
                  </a:lnTo>
                  <a:lnTo>
                    <a:pt x="619" y="112"/>
                  </a:lnTo>
                  <a:lnTo>
                    <a:pt x="627" y="120"/>
                  </a:lnTo>
                  <a:lnTo>
                    <a:pt x="634" y="127"/>
                  </a:lnTo>
                  <a:lnTo>
                    <a:pt x="0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22400" y="1825560"/>
              <a:ext cx="2087640" cy="556920"/>
            </a:xfrm>
            <a:custGeom>
              <a:avLst/>
              <a:gdLst/>
              <a:ahLst/>
              <a:rect l="l" t="t" r="r" b="b"/>
              <a:pathLst>
                <a:path w="1315" h="351">
                  <a:moveTo>
                    <a:pt x="1315" y="0"/>
                  </a:moveTo>
                  <a:lnTo>
                    <a:pt x="1315" y="7"/>
                  </a:lnTo>
                  <a:lnTo>
                    <a:pt x="1307" y="15"/>
                  </a:lnTo>
                  <a:lnTo>
                    <a:pt x="1307" y="22"/>
                  </a:lnTo>
                  <a:lnTo>
                    <a:pt x="1300" y="30"/>
                  </a:lnTo>
                  <a:lnTo>
                    <a:pt x="1292" y="37"/>
                  </a:lnTo>
                  <a:lnTo>
                    <a:pt x="1285" y="45"/>
                  </a:lnTo>
                  <a:lnTo>
                    <a:pt x="1277" y="52"/>
                  </a:lnTo>
                  <a:lnTo>
                    <a:pt x="1270" y="60"/>
                  </a:lnTo>
                  <a:lnTo>
                    <a:pt x="1262" y="67"/>
                  </a:lnTo>
                  <a:lnTo>
                    <a:pt x="1247" y="75"/>
                  </a:lnTo>
                  <a:lnTo>
                    <a:pt x="1232" y="82"/>
                  </a:lnTo>
                  <a:lnTo>
                    <a:pt x="1218" y="90"/>
                  </a:lnTo>
                  <a:lnTo>
                    <a:pt x="1203" y="97"/>
                  </a:lnTo>
                  <a:lnTo>
                    <a:pt x="1180" y="105"/>
                  </a:lnTo>
                  <a:lnTo>
                    <a:pt x="1165" y="105"/>
                  </a:lnTo>
                  <a:lnTo>
                    <a:pt x="1143" y="112"/>
                  </a:lnTo>
                  <a:lnTo>
                    <a:pt x="1128" y="119"/>
                  </a:lnTo>
                  <a:lnTo>
                    <a:pt x="1106" y="127"/>
                  </a:lnTo>
                  <a:lnTo>
                    <a:pt x="1076" y="127"/>
                  </a:lnTo>
                  <a:lnTo>
                    <a:pt x="1061" y="134"/>
                  </a:lnTo>
                  <a:lnTo>
                    <a:pt x="1031" y="142"/>
                  </a:lnTo>
                  <a:lnTo>
                    <a:pt x="1016" y="142"/>
                  </a:lnTo>
                  <a:lnTo>
                    <a:pt x="986" y="149"/>
                  </a:lnTo>
                  <a:lnTo>
                    <a:pt x="956" y="149"/>
                  </a:lnTo>
                  <a:lnTo>
                    <a:pt x="934" y="157"/>
                  </a:lnTo>
                  <a:lnTo>
                    <a:pt x="904" y="157"/>
                  </a:lnTo>
                  <a:lnTo>
                    <a:pt x="882" y="157"/>
                  </a:lnTo>
                  <a:lnTo>
                    <a:pt x="844" y="164"/>
                  </a:lnTo>
                  <a:lnTo>
                    <a:pt x="814" y="164"/>
                  </a:lnTo>
                  <a:lnTo>
                    <a:pt x="792" y="164"/>
                  </a:lnTo>
                  <a:lnTo>
                    <a:pt x="762" y="164"/>
                  </a:lnTo>
                  <a:lnTo>
                    <a:pt x="732" y="172"/>
                  </a:lnTo>
                  <a:lnTo>
                    <a:pt x="702" y="172"/>
                  </a:lnTo>
                  <a:lnTo>
                    <a:pt x="665" y="172"/>
                  </a:lnTo>
                  <a:lnTo>
                    <a:pt x="643" y="172"/>
                  </a:lnTo>
                  <a:lnTo>
                    <a:pt x="613" y="172"/>
                  </a:lnTo>
                  <a:lnTo>
                    <a:pt x="575" y="172"/>
                  </a:lnTo>
                  <a:lnTo>
                    <a:pt x="553" y="164"/>
                  </a:lnTo>
                  <a:lnTo>
                    <a:pt x="516" y="164"/>
                  </a:lnTo>
                  <a:lnTo>
                    <a:pt x="493" y="164"/>
                  </a:lnTo>
                  <a:lnTo>
                    <a:pt x="463" y="164"/>
                  </a:lnTo>
                  <a:lnTo>
                    <a:pt x="434" y="157"/>
                  </a:lnTo>
                  <a:lnTo>
                    <a:pt x="411" y="157"/>
                  </a:lnTo>
                  <a:lnTo>
                    <a:pt x="381" y="157"/>
                  </a:lnTo>
                  <a:lnTo>
                    <a:pt x="359" y="149"/>
                  </a:lnTo>
                  <a:lnTo>
                    <a:pt x="329" y="149"/>
                  </a:lnTo>
                  <a:lnTo>
                    <a:pt x="299" y="142"/>
                  </a:lnTo>
                  <a:lnTo>
                    <a:pt x="277" y="142"/>
                  </a:lnTo>
                  <a:lnTo>
                    <a:pt x="254" y="134"/>
                  </a:lnTo>
                  <a:lnTo>
                    <a:pt x="232" y="127"/>
                  </a:lnTo>
                  <a:lnTo>
                    <a:pt x="210" y="127"/>
                  </a:lnTo>
                  <a:lnTo>
                    <a:pt x="180" y="119"/>
                  </a:lnTo>
                  <a:lnTo>
                    <a:pt x="165" y="112"/>
                  </a:lnTo>
                  <a:lnTo>
                    <a:pt x="142" y="105"/>
                  </a:lnTo>
                  <a:lnTo>
                    <a:pt x="127" y="105"/>
                  </a:lnTo>
                  <a:lnTo>
                    <a:pt x="112" y="97"/>
                  </a:lnTo>
                  <a:lnTo>
                    <a:pt x="90" y="90"/>
                  </a:lnTo>
                  <a:lnTo>
                    <a:pt x="83" y="82"/>
                  </a:lnTo>
                  <a:lnTo>
                    <a:pt x="68" y="75"/>
                  </a:lnTo>
                  <a:lnTo>
                    <a:pt x="53" y="67"/>
                  </a:lnTo>
                  <a:lnTo>
                    <a:pt x="45" y="60"/>
                  </a:lnTo>
                  <a:lnTo>
                    <a:pt x="30" y="52"/>
                  </a:lnTo>
                  <a:lnTo>
                    <a:pt x="23" y="45"/>
                  </a:lnTo>
                  <a:lnTo>
                    <a:pt x="15" y="37"/>
                  </a:lnTo>
                  <a:lnTo>
                    <a:pt x="8" y="30"/>
                  </a:lnTo>
                  <a:lnTo>
                    <a:pt x="8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179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8" y="202"/>
                  </a:lnTo>
                  <a:lnTo>
                    <a:pt x="8" y="209"/>
                  </a:lnTo>
                  <a:lnTo>
                    <a:pt x="15" y="217"/>
                  </a:lnTo>
                  <a:lnTo>
                    <a:pt x="23" y="224"/>
                  </a:lnTo>
                  <a:lnTo>
                    <a:pt x="30" y="231"/>
                  </a:lnTo>
                  <a:lnTo>
                    <a:pt x="45" y="239"/>
                  </a:lnTo>
                  <a:lnTo>
                    <a:pt x="53" y="246"/>
                  </a:lnTo>
                  <a:lnTo>
                    <a:pt x="68" y="254"/>
                  </a:lnTo>
                  <a:lnTo>
                    <a:pt x="83" y="261"/>
                  </a:lnTo>
                  <a:lnTo>
                    <a:pt x="90" y="269"/>
                  </a:lnTo>
                  <a:lnTo>
                    <a:pt x="112" y="276"/>
                  </a:lnTo>
                  <a:lnTo>
                    <a:pt x="127" y="284"/>
                  </a:lnTo>
                  <a:lnTo>
                    <a:pt x="142" y="284"/>
                  </a:lnTo>
                  <a:lnTo>
                    <a:pt x="165" y="291"/>
                  </a:lnTo>
                  <a:lnTo>
                    <a:pt x="180" y="299"/>
                  </a:lnTo>
                  <a:lnTo>
                    <a:pt x="210" y="306"/>
                  </a:lnTo>
                  <a:lnTo>
                    <a:pt x="232" y="306"/>
                  </a:lnTo>
                  <a:lnTo>
                    <a:pt x="254" y="314"/>
                  </a:lnTo>
                  <a:lnTo>
                    <a:pt x="277" y="321"/>
                  </a:lnTo>
                  <a:lnTo>
                    <a:pt x="299" y="321"/>
                  </a:lnTo>
                  <a:lnTo>
                    <a:pt x="329" y="329"/>
                  </a:lnTo>
                  <a:lnTo>
                    <a:pt x="359" y="329"/>
                  </a:lnTo>
                  <a:lnTo>
                    <a:pt x="381" y="336"/>
                  </a:lnTo>
                  <a:lnTo>
                    <a:pt x="411" y="336"/>
                  </a:lnTo>
                  <a:lnTo>
                    <a:pt x="434" y="336"/>
                  </a:lnTo>
                  <a:lnTo>
                    <a:pt x="463" y="343"/>
                  </a:lnTo>
                  <a:lnTo>
                    <a:pt x="493" y="343"/>
                  </a:lnTo>
                  <a:lnTo>
                    <a:pt x="516" y="343"/>
                  </a:lnTo>
                  <a:lnTo>
                    <a:pt x="553" y="343"/>
                  </a:lnTo>
                  <a:lnTo>
                    <a:pt x="575" y="351"/>
                  </a:lnTo>
                  <a:lnTo>
                    <a:pt x="613" y="351"/>
                  </a:lnTo>
                  <a:lnTo>
                    <a:pt x="643" y="351"/>
                  </a:lnTo>
                  <a:lnTo>
                    <a:pt x="665" y="351"/>
                  </a:lnTo>
                  <a:lnTo>
                    <a:pt x="702" y="351"/>
                  </a:lnTo>
                  <a:lnTo>
                    <a:pt x="732" y="351"/>
                  </a:lnTo>
                  <a:lnTo>
                    <a:pt x="762" y="343"/>
                  </a:lnTo>
                  <a:lnTo>
                    <a:pt x="792" y="343"/>
                  </a:lnTo>
                  <a:lnTo>
                    <a:pt x="814" y="343"/>
                  </a:lnTo>
                  <a:lnTo>
                    <a:pt x="844" y="343"/>
                  </a:lnTo>
                  <a:lnTo>
                    <a:pt x="882" y="336"/>
                  </a:lnTo>
                  <a:lnTo>
                    <a:pt x="904" y="336"/>
                  </a:lnTo>
                  <a:lnTo>
                    <a:pt x="934" y="336"/>
                  </a:lnTo>
                  <a:lnTo>
                    <a:pt x="956" y="329"/>
                  </a:lnTo>
                  <a:lnTo>
                    <a:pt x="986" y="329"/>
                  </a:lnTo>
                  <a:lnTo>
                    <a:pt x="1016" y="321"/>
                  </a:lnTo>
                  <a:lnTo>
                    <a:pt x="1031" y="321"/>
                  </a:lnTo>
                  <a:lnTo>
                    <a:pt x="1061" y="314"/>
                  </a:lnTo>
                  <a:lnTo>
                    <a:pt x="1076" y="306"/>
                  </a:lnTo>
                  <a:lnTo>
                    <a:pt x="1106" y="306"/>
                  </a:lnTo>
                  <a:lnTo>
                    <a:pt x="1128" y="299"/>
                  </a:lnTo>
                  <a:lnTo>
                    <a:pt x="1143" y="291"/>
                  </a:lnTo>
                  <a:lnTo>
                    <a:pt x="1165" y="284"/>
                  </a:lnTo>
                  <a:lnTo>
                    <a:pt x="1180" y="284"/>
                  </a:lnTo>
                  <a:lnTo>
                    <a:pt x="1203" y="276"/>
                  </a:lnTo>
                  <a:lnTo>
                    <a:pt x="1218" y="269"/>
                  </a:lnTo>
                  <a:lnTo>
                    <a:pt x="1232" y="261"/>
                  </a:lnTo>
                  <a:lnTo>
                    <a:pt x="1247" y="254"/>
                  </a:lnTo>
                  <a:lnTo>
                    <a:pt x="1262" y="246"/>
                  </a:lnTo>
                  <a:lnTo>
                    <a:pt x="1270" y="239"/>
                  </a:lnTo>
                  <a:lnTo>
                    <a:pt x="1277" y="231"/>
                  </a:lnTo>
                  <a:lnTo>
                    <a:pt x="1285" y="224"/>
                  </a:lnTo>
                  <a:lnTo>
                    <a:pt x="1292" y="217"/>
                  </a:lnTo>
                  <a:lnTo>
                    <a:pt x="1300" y="209"/>
                  </a:lnTo>
                  <a:lnTo>
                    <a:pt x="1307" y="202"/>
                  </a:lnTo>
                  <a:lnTo>
                    <a:pt x="1307" y="194"/>
                  </a:lnTo>
                  <a:lnTo>
                    <a:pt x="1315" y="187"/>
                  </a:lnTo>
                  <a:lnTo>
                    <a:pt x="1315" y="179"/>
                  </a:lnTo>
                  <a:lnTo>
                    <a:pt x="1315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22400" y="1552320"/>
              <a:ext cx="2087640" cy="546120"/>
            </a:xfrm>
            <a:custGeom>
              <a:avLst/>
              <a:gdLst/>
              <a:ahLst/>
              <a:rect l="l" t="t" r="r" b="b"/>
              <a:pathLst>
                <a:path w="1315" h="344">
                  <a:moveTo>
                    <a:pt x="1292" y="127"/>
                  </a:moveTo>
                  <a:lnTo>
                    <a:pt x="1300" y="135"/>
                  </a:lnTo>
                  <a:lnTo>
                    <a:pt x="1307" y="142"/>
                  </a:lnTo>
                  <a:lnTo>
                    <a:pt x="1307" y="150"/>
                  </a:lnTo>
                  <a:lnTo>
                    <a:pt x="1315" y="165"/>
                  </a:lnTo>
                  <a:lnTo>
                    <a:pt x="1315" y="165"/>
                  </a:lnTo>
                  <a:lnTo>
                    <a:pt x="1315" y="179"/>
                  </a:lnTo>
                  <a:lnTo>
                    <a:pt x="1315" y="179"/>
                  </a:lnTo>
                  <a:lnTo>
                    <a:pt x="1307" y="194"/>
                  </a:lnTo>
                  <a:lnTo>
                    <a:pt x="1300" y="202"/>
                  </a:lnTo>
                  <a:lnTo>
                    <a:pt x="1300" y="209"/>
                  </a:lnTo>
                  <a:lnTo>
                    <a:pt x="1292" y="217"/>
                  </a:lnTo>
                  <a:lnTo>
                    <a:pt x="1277" y="224"/>
                  </a:lnTo>
                  <a:lnTo>
                    <a:pt x="1270" y="232"/>
                  </a:lnTo>
                  <a:lnTo>
                    <a:pt x="1262" y="239"/>
                  </a:lnTo>
                  <a:lnTo>
                    <a:pt x="1255" y="239"/>
                  </a:lnTo>
                  <a:lnTo>
                    <a:pt x="1232" y="254"/>
                  </a:lnTo>
                  <a:lnTo>
                    <a:pt x="1218" y="262"/>
                  </a:lnTo>
                  <a:lnTo>
                    <a:pt x="1210" y="262"/>
                  </a:lnTo>
                  <a:lnTo>
                    <a:pt x="1188" y="269"/>
                  </a:lnTo>
                  <a:lnTo>
                    <a:pt x="1165" y="277"/>
                  </a:lnTo>
                  <a:lnTo>
                    <a:pt x="1150" y="284"/>
                  </a:lnTo>
                  <a:lnTo>
                    <a:pt x="1128" y="291"/>
                  </a:lnTo>
                  <a:lnTo>
                    <a:pt x="1113" y="291"/>
                  </a:lnTo>
                  <a:lnTo>
                    <a:pt x="1083" y="299"/>
                  </a:lnTo>
                  <a:lnTo>
                    <a:pt x="1061" y="306"/>
                  </a:lnTo>
                  <a:lnTo>
                    <a:pt x="1038" y="306"/>
                  </a:lnTo>
                  <a:lnTo>
                    <a:pt x="1016" y="314"/>
                  </a:lnTo>
                  <a:lnTo>
                    <a:pt x="986" y="321"/>
                  </a:lnTo>
                  <a:lnTo>
                    <a:pt x="964" y="321"/>
                  </a:lnTo>
                  <a:lnTo>
                    <a:pt x="934" y="329"/>
                  </a:lnTo>
                  <a:lnTo>
                    <a:pt x="904" y="329"/>
                  </a:lnTo>
                  <a:lnTo>
                    <a:pt x="882" y="329"/>
                  </a:lnTo>
                  <a:lnTo>
                    <a:pt x="844" y="336"/>
                  </a:lnTo>
                  <a:lnTo>
                    <a:pt x="829" y="336"/>
                  </a:lnTo>
                  <a:lnTo>
                    <a:pt x="792" y="336"/>
                  </a:lnTo>
                  <a:lnTo>
                    <a:pt x="762" y="336"/>
                  </a:lnTo>
                  <a:lnTo>
                    <a:pt x="732" y="344"/>
                  </a:lnTo>
                  <a:lnTo>
                    <a:pt x="702" y="344"/>
                  </a:lnTo>
                  <a:lnTo>
                    <a:pt x="665" y="344"/>
                  </a:lnTo>
                  <a:lnTo>
                    <a:pt x="643" y="344"/>
                  </a:lnTo>
                  <a:lnTo>
                    <a:pt x="613" y="344"/>
                  </a:lnTo>
                  <a:lnTo>
                    <a:pt x="590" y="344"/>
                  </a:lnTo>
                  <a:lnTo>
                    <a:pt x="553" y="336"/>
                  </a:lnTo>
                  <a:lnTo>
                    <a:pt x="516" y="336"/>
                  </a:lnTo>
                  <a:lnTo>
                    <a:pt x="493" y="336"/>
                  </a:lnTo>
                  <a:lnTo>
                    <a:pt x="463" y="336"/>
                  </a:lnTo>
                  <a:lnTo>
                    <a:pt x="434" y="329"/>
                  </a:lnTo>
                  <a:lnTo>
                    <a:pt x="411" y="329"/>
                  </a:lnTo>
                  <a:lnTo>
                    <a:pt x="381" y="329"/>
                  </a:lnTo>
                  <a:lnTo>
                    <a:pt x="359" y="321"/>
                  </a:lnTo>
                  <a:lnTo>
                    <a:pt x="329" y="321"/>
                  </a:lnTo>
                  <a:lnTo>
                    <a:pt x="299" y="314"/>
                  </a:lnTo>
                  <a:lnTo>
                    <a:pt x="277" y="314"/>
                  </a:lnTo>
                  <a:lnTo>
                    <a:pt x="254" y="306"/>
                  </a:lnTo>
                  <a:lnTo>
                    <a:pt x="224" y="299"/>
                  </a:lnTo>
                  <a:lnTo>
                    <a:pt x="210" y="299"/>
                  </a:lnTo>
                  <a:lnTo>
                    <a:pt x="180" y="291"/>
                  </a:lnTo>
                  <a:lnTo>
                    <a:pt x="157" y="284"/>
                  </a:lnTo>
                  <a:lnTo>
                    <a:pt x="142" y="277"/>
                  </a:lnTo>
                  <a:lnTo>
                    <a:pt x="127" y="269"/>
                  </a:lnTo>
                  <a:lnTo>
                    <a:pt x="112" y="269"/>
                  </a:lnTo>
                  <a:lnTo>
                    <a:pt x="90" y="262"/>
                  </a:lnTo>
                  <a:lnTo>
                    <a:pt x="75" y="254"/>
                  </a:lnTo>
                  <a:lnTo>
                    <a:pt x="68" y="247"/>
                  </a:lnTo>
                  <a:lnTo>
                    <a:pt x="53" y="239"/>
                  </a:lnTo>
                  <a:lnTo>
                    <a:pt x="38" y="232"/>
                  </a:lnTo>
                  <a:lnTo>
                    <a:pt x="30" y="224"/>
                  </a:lnTo>
                  <a:lnTo>
                    <a:pt x="23" y="217"/>
                  </a:lnTo>
                  <a:lnTo>
                    <a:pt x="15" y="209"/>
                  </a:lnTo>
                  <a:lnTo>
                    <a:pt x="8" y="202"/>
                  </a:lnTo>
                  <a:lnTo>
                    <a:pt x="0" y="194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8" y="150"/>
                  </a:lnTo>
                  <a:lnTo>
                    <a:pt x="8" y="135"/>
                  </a:lnTo>
                  <a:lnTo>
                    <a:pt x="15" y="127"/>
                  </a:lnTo>
                  <a:lnTo>
                    <a:pt x="23" y="120"/>
                  </a:lnTo>
                  <a:lnTo>
                    <a:pt x="38" y="112"/>
                  </a:lnTo>
                  <a:lnTo>
                    <a:pt x="45" y="105"/>
                  </a:lnTo>
                  <a:lnTo>
                    <a:pt x="53" y="97"/>
                  </a:lnTo>
                  <a:lnTo>
                    <a:pt x="68" y="90"/>
                  </a:lnTo>
                  <a:lnTo>
                    <a:pt x="90" y="82"/>
                  </a:lnTo>
                  <a:lnTo>
                    <a:pt x="98" y="82"/>
                  </a:lnTo>
                  <a:lnTo>
                    <a:pt x="120" y="75"/>
                  </a:lnTo>
                  <a:lnTo>
                    <a:pt x="127" y="67"/>
                  </a:lnTo>
                  <a:lnTo>
                    <a:pt x="150" y="60"/>
                  </a:lnTo>
                  <a:lnTo>
                    <a:pt x="172" y="53"/>
                  </a:lnTo>
                  <a:lnTo>
                    <a:pt x="195" y="45"/>
                  </a:lnTo>
                  <a:lnTo>
                    <a:pt x="217" y="45"/>
                  </a:lnTo>
                  <a:lnTo>
                    <a:pt x="239" y="38"/>
                  </a:lnTo>
                  <a:lnTo>
                    <a:pt x="262" y="30"/>
                  </a:lnTo>
                  <a:lnTo>
                    <a:pt x="292" y="30"/>
                  </a:lnTo>
                  <a:lnTo>
                    <a:pt x="307" y="23"/>
                  </a:lnTo>
                  <a:lnTo>
                    <a:pt x="336" y="23"/>
                  </a:lnTo>
                  <a:lnTo>
                    <a:pt x="366" y="15"/>
                  </a:lnTo>
                  <a:lnTo>
                    <a:pt x="389" y="15"/>
                  </a:lnTo>
                  <a:lnTo>
                    <a:pt x="419" y="8"/>
                  </a:lnTo>
                  <a:lnTo>
                    <a:pt x="456" y="8"/>
                  </a:lnTo>
                  <a:lnTo>
                    <a:pt x="471" y="8"/>
                  </a:lnTo>
                  <a:lnTo>
                    <a:pt x="508" y="0"/>
                  </a:lnTo>
                  <a:lnTo>
                    <a:pt x="531" y="0"/>
                  </a:lnTo>
                  <a:lnTo>
                    <a:pt x="568" y="0"/>
                  </a:lnTo>
                  <a:lnTo>
                    <a:pt x="598" y="0"/>
                  </a:lnTo>
                  <a:lnTo>
                    <a:pt x="620" y="0"/>
                  </a:lnTo>
                  <a:lnTo>
                    <a:pt x="658" y="0"/>
                  </a:lnTo>
                  <a:lnTo>
                    <a:pt x="658" y="172"/>
                  </a:lnTo>
                  <a:lnTo>
                    <a:pt x="1292" y="127"/>
                  </a:lnTo>
                  <a:close/>
                </a:path>
              </a:pathLst>
            </a:custGeom>
            <a:solidFill>
              <a:srgbClr val="0000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11520" y="1295280"/>
              <a:ext cx="58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utura Lt BT"/>
                </a:rPr>
                <a:t>19’72</a:t>
              </a:r>
              <a:r>
                <a:rPr b="0" lang="es-ES" sz="1400" spc="-1" strike="noStrike">
                  <a:solidFill>
                    <a:srgbClr val="000000"/>
                  </a:solidFill>
                  <a:latin typeface="Futura Lt BT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80920" y="2317680"/>
              <a:ext cx="58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utura Lt BT"/>
                </a:rPr>
                <a:t>80’28</a:t>
              </a:r>
              <a:r>
                <a:rPr b="0" lang="es-ES" sz="1400" spc="-1" strike="noStrike">
                  <a:solidFill>
                    <a:srgbClr val="000000"/>
                  </a:solidFill>
                  <a:latin typeface="Futura Lt BT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828800" y="2612880"/>
              <a:ext cx="3573360" cy="304560"/>
              <a:chOff x="1828800" y="2612880"/>
              <a:chExt cx="3573360" cy="304560"/>
            </a:xfrm>
          </p:grpSpPr>
          <p:sp>
            <p:nvSpPr>
              <p:cNvPr id="469" name=""/>
              <p:cNvSpPr/>
              <p:nvPr/>
            </p:nvSpPr>
            <p:spPr>
              <a:xfrm>
                <a:off x="1828800" y="2612880"/>
                <a:ext cx="3573360" cy="3045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900080" y="2684160"/>
                <a:ext cx="142920" cy="140760"/>
              </a:xfrm>
              <a:prstGeom prst="rect">
                <a:avLst/>
              </a:prstGeom>
              <a:solidFill>
                <a:srgbClr val="96969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053800" y="2638080"/>
                <a:ext cx="1782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Futura Lt BT"/>
                  </a:rPr>
                  <a:t>Certificadas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Futura Lt BT"/>
                  </a:rPr>
                  <a:t> ISO 9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862440" y="2696760"/>
                <a:ext cx="142920" cy="14076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29120" y="2650680"/>
                <a:ext cx="1274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Futura Lt BT"/>
                  </a:rPr>
                  <a:t>No Certificad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867280" y="1371600"/>
            <a:ext cx="3113280" cy="1523520"/>
            <a:chOff x="5867280" y="1371600"/>
            <a:chExt cx="3113280" cy="1523520"/>
          </a:xfrm>
        </p:grpSpPr>
        <p:sp>
          <p:nvSpPr>
            <p:cNvPr id="475" name=""/>
            <p:cNvSpPr/>
            <p:nvPr/>
          </p:nvSpPr>
          <p:spPr>
            <a:xfrm>
              <a:off x="6599160" y="1882440"/>
              <a:ext cx="708120" cy="334800"/>
            </a:xfrm>
            <a:custGeom>
              <a:avLst/>
              <a:gdLst/>
              <a:ahLst/>
              <a:rect l="l" t="t" r="r" b="b"/>
              <a:pathLst>
                <a:path w="446" h="211">
                  <a:moveTo>
                    <a:pt x="446" y="0"/>
                  </a:moveTo>
                  <a:lnTo>
                    <a:pt x="0" y="67"/>
                  </a:lnTo>
                  <a:lnTo>
                    <a:pt x="0" y="211"/>
                  </a:lnTo>
                  <a:lnTo>
                    <a:pt x="446" y="144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60606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6492960" y="1523880"/>
              <a:ext cx="2041200" cy="799200"/>
              <a:chOff x="6492960" y="1523880"/>
              <a:chExt cx="2041200" cy="799200"/>
            </a:xfrm>
          </p:grpSpPr>
          <p:sp>
            <p:nvSpPr>
              <p:cNvPr id="477" name=""/>
              <p:cNvSpPr/>
              <p:nvPr/>
            </p:nvSpPr>
            <p:spPr>
              <a:xfrm>
                <a:off x="6492960" y="1784880"/>
                <a:ext cx="132120" cy="408600"/>
              </a:xfrm>
              <a:custGeom>
                <a:avLst/>
                <a:gdLst/>
                <a:ahLst/>
                <a:rect l="l" t="t" r="r" b="b"/>
                <a:pathLst>
                  <a:path w="67" h="211">
                    <a:moveTo>
                      <a:pt x="67" y="67"/>
                    </a:moveTo>
                    <a:lnTo>
                      <a:pt x="57" y="62"/>
                    </a:lnTo>
                    <a:lnTo>
                      <a:pt x="52" y="57"/>
                    </a:lnTo>
                    <a:lnTo>
                      <a:pt x="43" y="52"/>
                    </a:lnTo>
                    <a:lnTo>
                      <a:pt x="38" y="48"/>
                    </a:lnTo>
                    <a:lnTo>
                      <a:pt x="28" y="43"/>
                    </a:lnTo>
                    <a:lnTo>
                      <a:pt x="24" y="38"/>
                    </a:lnTo>
                    <a:lnTo>
                      <a:pt x="19" y="33"/>
                    </a:lnTo>
                    <a:lnTo>
                      <a:pt x="14" y="33"/>
                    </a:lnTo>
                    <a:lnTo>
                      <a:pt x="9" y="28"/>
                    </a:lnTo>
                    <a:lnTo>
                      <a:pt x="4" y="2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0" y="148"/>
                    </a:lnTo>
                    <a:lnTo>
                      <a:pt x="0" y="153"/>
                    </a:lnTo>
                    <a:lnTo>
                      <a:pt x="0" y="158"/>
                    </a:lnTo>
                    <a:lnTo>
                      <a:pt x="4" y="163"/>
                    </a:lnTo>
                    <a:lnTo>
                      <a:pt x="4" y="168"/>
                    </a:lnTo>
                    <a:lnTo>
                      <a:pt x="9" y="172"/>
                    </a:lnTo>
                    <a:lnTo>
                      <a:pt x="14" y="177"/>
                    </a:lnTo>
                    <a:lnTo>
                      <a:pt x="19" y="177"/>
                    </a:lnTo>
                    <a:lnTo>
                      <a:pt x="24" y="182"/>
                    </a:lnTo>
                    <a:lnTo>
                      <a:pt x="28" y="187"/>
                    </a:lnTo>
                    <a:lnTo>
                      <a:pt x="38" y="192"/>
                    </a:lnTo>
                    <a:lnTo>
                      <a:pt x="43" y="196"/>
                    </a:lnTo>
                    <a:lnTo>
                      <a:pt x="52" y="201"/>
                    </a:lnTo>
                    <a:lnTo>
                      <a:pt x="57" y="206"/>
                    </a:lnTo>
                    <a:lnTo>
                      <a:pt x="67" y="211"/>
                    </a:lnTo>
                    <a:lnTo>
                      <a:pt x="67" y="67"/>
                    </a:lnTo>
                    <a:close/>
                  </a:path>
                </a:pathLst>
              </a:custGeom>
              <a:solidFill>
                <a:srgbClr val="60606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92960" y="1523880"/>
                <a:ext cx="1014480" cy="390960"/>
              </a:xfrm>
              <a:custGeom>
                <a:avLst/>
                <a:gdLst/>
                <a:ahLst/>
                <a:rect l="l" t="t" r="r" b="b"/>
                <a:pathLst>
                  <a:path w="513" h="202">
                    <a:moveTo>
                      <a:pt x="67" y="202"/>
                    </a:moveTo>
                    <a:lnTo>
                      <a:pt x="57" y="197"/>
                    </a:lnTo>
                    <a:lnTo>
                      <a:pt x="52" y="192"/>
                    </a:lnTo>
                    <a:lnTo>
                      <a:pt x="38" y="187"/>
                    </a:lnTo>
                    <a:lnTo>
                      <a:pt x="33" y="183"/>
                    </a:lnTo>
                    <a:lnTo>
                      <a:pt x="28" y="178"/>
                    </a:lnTo>
                    <a:lnTo>
                      <a:pt x="19" y="173"/>
                    </a:lnTo>
                    <a:lnTo>
                      <a:pt x="14" y="168"/>
                    </a:lnTo>
                    <a:lnTo>
                      <a:pt x="9" y="163"/>
                    </a:lnTo>
                    <a:lnTo>
                      <a:pt x="4" y="159"/>
                    </a:lnTo>
                    <a:lnTo>
                      <a:pt x="4" y="154"/>
                    </a:lnTo>
                    <a:lnTo>
                      <a:pt x="0" y="149"/>
                    </a:lnTo>
                    <a:lnTo>
                      <a:pt x="0" y="139"/>
                    </a:lnTo>
                    <a:lnTo>
                      <a:pt x="0" y="135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20"/>
                    </a:lnTo>
                    <a:lnTo>
                      <a:pt x="4" y="115"/>
                    </a:lnTo>
                    <a:lnTo>
                      <a:pt x="4" y="111"/>
                    </a:lnTo>
                    <a:lnTo>
                      <a:pt x="9" y="106"/>
                    </a:lnTo>
                    <a:lnTo>
                      <a:pt x="14" y="101"/>
                    </a:lnTo>
                    <a:lnTo>
                      <a:pt x="19" y="96"/>
                    </a:lnTo>
                    <a:lnTo>
                      <a:pt x="28" y="91"/>
                    </a:lnTo>
                    <a:lnTo>
                      <a:pt x="33" y="87"/>
                    </a:lnTo>
                    <a:lnTo>
                      <a:pt x="38" y="82"/>
                    </a:lnTo>
                    <a:lnTo>
                      <a:pt x="52" y="72"/>
                    </a:lnTo>
                    <a:lnTo>
                      <a:pt x="57" y="72"/>
                    </a:lnTo>
                    <a:lnTo>
                      <a:pt x="67" y="67"/>
                    </a:lnTo>
                    <a:lnTo>
                      <a:pt x="76" y="63"/>
                    </a:lnTo>
                    <a:lnTo>
                      <a:pt x="86" y="58"/>
                    </a:lnTo>
                    <a:lnTo>
                      <a:pt x="100" y="53"/>
                    </a:lnTo>
                    <a:lnTo>
                      <a:pt x="115" y="48"/>
                    </a:lnTo>
                    <a:lnTo>
                      <a:pt x="124" y="43"/>
                    </a:lnTo>
                    <a:lnTo>
                      <a:pt x="139" y="43"/>
                    </a:lnTo>
                    <a:lnTo>
                      <a:pt x="158" y="39"/>
                    </a:lnTo>
                    <a:lnTo>
                      <a:pt x="168" y="34"/>
                    </a:lnTo>
                    <a:lnTo>
                      <a:pt x="182" y="29"/>
                    </a:lnTo>
                    <a:lnTo>
                      <a:pt x="196" y="29"/>
                    </a:lnTo>
                    <a:lnTo>
                      <a:pt x="211" y="24"/>
                    </a:lnTo>
                    <a:lnTo>
                      <a:pt x="235" y="19"/>
                    </a:lnTo>
                    <a:lnTo>
                      <a:pt x="249" y="19"/>
                    </a:lnTo>
                    <a:lnTo>
                      <a:pt x="264" y="15"/>
                    </a:lnTo>
                    <a:lnTo>
                      <a:pt x="278" y="15"/>
                    </a:lnTo>
                    <a:lnTo>
                      <a:pt x="307" y="10"/>
                    </a:lnTo>
                    <a:lnTo>
                      <a:pt x="321" y="10"/>
                    </a:lnTo>
                    <a:lnTo>
                      <a:pt x="336" y="5"/>
                    </a:lnTo>
                    <a:lnTo>
                      <a:pt x="355" y="5"/>
                    </a:lnTo>
                    <a:lnTo>
                      <a:pt x="374" y="5"/>
                    </a:lnTo>
                    <a:lnTo>
                      <a:pt x="398" y="0"/>
                    </a:lnTo>
                    <a:lnTo>
                      <a:pt x="417" y="0"/>
                    </a:lnTo>
                    <a:lnTo>
                      <a:pt x="432" y="0"/>
                    </a:lnTo>
                    <a:lnTo>
                      <a:pt x="451" y="0"/>
                    </a:lnTo>
                    <a:lnTo>
                      <a:pt x="480" y="0"/>
                    </a:lnTo>
                    <a:lnTo>
                      <a:pt x="494" y="0"/>
                    </a:lnTo>
                    <a:lnTo>
                      <a:pt x="513" y="0"/>
                    </a:lnTo>
                    <a:lnTo>
                      <a:pt x="513" y="135"/>
                    </a:lnTo>
                    <a:lnTo>
                      <a:pt x="67" y="202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625080" y="1784880"/>
                <a:ext cx="1909080" cy="538200"/>
              </a:xfrm>
              <a:custGeom>
                <a:avLst/>
                <a:gdLst/>
                <a:ahLst/>
                <a:rect l="l" t="t" r="r" b="b"/>
                <a:pathLst>
                  <a:path w="965" h="278">
                    <a:moveTo>
                      <a:pt x="965" y="0"/>
                    </a:moveTo>
                    <a:lnTo>
                      <a:pt x="965" y="4"/>
                    </a:lnTo>
                    <a:lnTo>
                      <a:pt x="960" y="9"/>
                    </a:lnTo>
                    <a:lnTo>
                      <a:pt x="960" y="14"/>
                    </a:lnTo>
                    <a:lnTo>
                      <a:pt x="955" y="19"/>
                    </a:lnTo>
                    <a:lnTo>
                      <a:pt x="955" y="24"/>
                    </a:lnTo>
                    <a:lnTo>
                      <a:pt x="950" y="33"/>
                    </a:lnTo>
                    <a:lnTo>
                      <a:pt x="945" y="33"/>
                    </a:lnTo>
                    <a:lnTo>
                      <a:pt x="936" y="38"/>
                    </a:lnTo>
                    <a:lnTo>
                      <a:pt x="931" y="43"/>
                    </a:lnTo>
                    <a:lnTo>
                      <a:pt x="921" y="52"/>
                    </a:lnTo>
                    <a:lnTo>
                      <a:pt x="917" y="57"/>
                    </a:lnTo>
                    <a:lnTo>
                      <a:pt x="907" y="57"/>
                    </a:lnTo>
                    <a:lnTo>
                      <a:pt x="893" y="67"/>
                    </a:lnTo>
                    <a:lnTo>
                      <a:pt x="883" y="72"/>
                    </a:lnTo>
                    <a:lnTo>
                      <a:pt x="873" y="72"/>
                    </a:lnTo>
                    <a:lnTo>
                      <a:pt x="864" y="76"/>
                    </a:lnTo>
                    <a:lnTo>
                      <a:pt x="849" y="81"/>
                    </a:lnTo>
                    <a:lnTo>
                      <a:pt x="835" y="86"/>
                    </a:lnTo>
                    <a:lnTo>
                      <a:pt x="825" y="91"/>
                    </a:lnTo>
                    <a:lnTo>
                      <a:pt x="811" y="96"/>
                    </a:lnTo>
                    <a:lnTo>
                      <a:pt x="792" y="100"/>
                    </a:lnTo>
                    <a:lnTo>
                      <a:pt x="777" y="100"/>
                    </a:lnTo>
                    <a:lnTo>
                      <a:pt x="763" y="105"/>
                    </a:lnTo>
                    <a:lnTo>
                      <a:pt x="744" y="110"/>
                    </a:lnTo>
                    <a:lnTo>
                      <a:pt x="729" y="110"/>
                    </a:lnTo>
                    <a:lnTo>
                      <a:pt x="715" y="115"/>
                    </a:lnTo>
                    <a:lnTo>
                      <a:pt x="696" y="115"/>
                    </a:lnTo>
                    <a:lnTo>
                      <a:pt x="672" y="120"/>
                    </a:lnTo>
                    <a:lnTo>
                      <a:pt x="657" y="120"/>
                    </a:lnTo>
                    <a:lnTo>
                      <a:pt x="643" y="124"/>
                    </a:lnTo>
                    <a:lnTo>
                      <a:pt x="624" y="124"/>
                    </a:lnTo>
                    <a:lnTo>
                      <a:pt x="600" y="129"/>
                    </a:lnTo>
                    <a:lnTo>
                      <a:pt x="581" y="129"/>
                    </a:lnTo>
                    <a:lnTo>
                      <a:pt x="561" y="129"/>
                    </a:lnTo>
                    <a:lnTo>
                      <a:pt x="537" y="129"/>
                    </a:lnTo>
                    <a:lnTo>
                      <a:pt x="518" y="129"/>
                    </a:lnTo>
                    <a:lnTo>
                      <a:pt x="499" y="134"/>
                    </a:lnTo>
                    <a:lnTo>
                      <a:pt x="485" y="134"/>
                    </a:lnTo>
                    <a:lnTo>
                      <a:pt x="456" y="134"/>
                    </a:lnTo>
                    <a:lnTo>
                      <a:pt x="437" y="134"/>
                    </a:lnTo>
                    <a:lnTo>
                      <a:pt x="422" y="134"/>
                    </a:lnTo>
                    <a:lnTo>
                      <a:pt x="403" y="134"/>
                    </a:lnTo>
                    <a:lnTo>
                      <a:pt x="374" y="129"/>
                    </a:lnTo>
                    <a:lnTo>
                      <a:pt x="360" y="129"/>
                    </a:lnTo>
                    <a:lnTo>
                      <a:pt x="341" y="129"/>
                    </a:lnTo>
                    <a:lnTo>
                      <a:pt x="312" y="129"/>
                    </a:lnTo>
                    <a:lnTo>
                      <a:pt x="297" y="129"/>
                    </a:lnTo>
                    <a:lnTo>
                      <a:pt x="278" y="124"/>
                    </a:lnTo>
                    <a:lnTo>
                      <a:pt x="264" y="124"/>
                    </a:lnTo>
                    <a:lnTo>
                      <a:pt x="240" y="120"/>
                    </a:lnTo>
                    <a:lnTo>
                      <a:pt x="221" y="120"/>
                    </a:lnTo>
                    <a:lnTo>
                      <a:pt x="206" y="115"/>
                    </a:lnTo>
                    <a:lnTo>
                      <a:pt x="187" y="115"/>
                    </a:lnTo>
                    <a:lnTo>
                      <a:pt x="168" y="110"/>
                    </a:lnTo>
                    <a:lnTo>
                      <a:pt x="153" y="110"/>
                    </a:lnTo>
                    <a:lnTo>
                      <a:pt x="139" y="105"/>
                    </a:lnTo>
                    <a:lnTo>
                      <a:pt x="115" y="100"/>
                    </a:lnTo>
                    <a:lnTo>
                      <a:pt x="101" y="100"/>
                    </a:lnTo>
                    <a:lnTo>
                      <a:pt x="91" y="96"/>
                    </a:lnTo>
                    <a:lnTo>
                      <a:pt x="77" y="91"/>
                    </a:lnTo>
                    <a:lnTo>
                      <a:pt x="57" y="86"/>
                    </a:lnTo>
                    <a:lnTo>
                      <a:pt x="48" y="81"/>
                    </a:lnTo>
                    <a:lnTo>
                      <a:pt x="33" y="81"/>
                    </a:lnTo>
                    <a:lnTo>
                      <a:pt x="24" y="76"/>
                    </a:lnTo>
                    <a:lnTo>
                      <a:pt x="9" y="72"/>
                    </a:lnTo>
                    <a:lnTo>
                      <a:pt x="0" y="67"/>
                    </a:lnTo>
                    <a:lnTo>
                      <a:pt x="0" y="211"/>
                    </a:lnTo>
                    <a:lnTo>
                      <a:pt x="9" y="216"/>
                    </a:lnTo>
                    <a:lnTo>
                      <a:pt x="24" y="220"/>
                    </a:lnTo>
                    <a:lnTo>
                      <a:pt x="33" y="225"/>
                    </a:lnTo>
                    <a:lnTo>
                      <a:pt x="48" y="225"/>
                    </a:lnTo>
                    <a:lnTo>
                      <a:pt x="57" y="230"/>
                    </a:lnTo>
                    <a:lnTo>
                      <a:pt x="77" y="235"/>
                    </a:lnTo>
                    <a:lnTo>
                      <a:pt x="91" y="240"/>
                    </a:lnTo>
                    <a:lnTo>
                      <a:pt x="101" y="244"/>
                    </a:lnTo>
                    <a:lnTo>
                      <a:pt x="115" y="244"/>
                    </a:lnTo>
                    <a:lnTo>
                      <a:pt x="139" y="249"/>
                    </a:lnTo>
                    <a:lnTo>
                      <a:pt x="153" y="254"/>
                    </a:lnTo>
                    <a:lnTo>
                      <a:pt x="168" y="254"/>
                    </a:lnTo>
                    <a:lnTo>
                      <a:pt x="187" y="259"/>
                    </a:lnTo>
                    <a:lnTo>
                      <a:pt x="206" y="259"/>
                    </a:lnTo>
                    <a:lnTo>
                      <a:pt x="221" y="264"/>
                    </a:lnTo>
                    <a:lnTo>
                      <a:pt x="240" y="264"/>
                    </a:lnTo>
                    <a:lnTo>
                      <a:pt x="264" y="268"/>
                    </a:lnTo>
                    <a:lnTo>
                      <a:pt x="278" y="268"/>
                    </a:lnTo>
                    <a:lnTo>
                      <a:pt x="297" y="273"/>
                    </a:lnTo>
                    <a:lnTo>
                      <a:pt x="312" y="273"/>
                    </a:lnTo>
                    <a:lnTo>
                      <a:pt x="341" y="273"/>
                    </a:lnTo>
                    <a:lnTo>
                      <a:pt x="360" y="273"/>
                    </a:lnTo>
                    <a:lnTo>
                      <a:pt x="374" y="273"/>
                    </a:lnTo>
                    <a:lnTo>
                      <a:pt x="403" y="278"/>
                    </a:lnTo>
                    <a:lnTo>
                      <a:pt x="422" y="278"/>
                    </a:lnTo>
                    <a:lnTo>
                      <a:pt x="437" y="278"/>
                    </a:lnTo>
                    <a:lnTo>
                      <a:pt x="456" y="278"/>
                    </a:lnTo>
                    <a:lnTo>
                      <a:pt x="485" y="278"/>
                    </a:lnTo>
                    <a:lnTo>
                      <a:pt x="499" y="278"/>
                    </a:lnTo>
                    <a:lnTo>
                      <a:pt x="518" y="273"/>
                    </a:lnTo>
                    <a:lnTo>
                      <a:pt x="537" y="273"/>
                    </a:lnTo>
                    <a:lnTo>
                      <a:pt x="561" y="273"/>
                    </a:lnTo>
                    <a:lnTo>
                      <a:pt x="581" y="273"/>
                    </a:lnTo>
                    <a:lnTo>
                      <a:pt x="600" y="273"/>
                    </a:lnTo>
                    <a:lnTo>
                      <a:pt x="624" y="268"/>
                    </a:lnTo>
                    <a:lnTo>
                      <a:pt x="643" y="268"/>
                    </a:lnTo>
                    <a:lnTo>
                      <a:pt x="657" y="264"/>
                    </a:lnTo>
                    <a:lnTo>
                      <a:pt x="672" y="264"/>
                    </a:lnTo>
                    <a:lnTo>
                      <a:pt x="696" y="259"/>
                    </a:lnTo>
                    <a:lnTo>
                      <a:pt x="715" y="259"/>
                    </a:lnTo>
                    <a:lnTo>
                      <a:pt x="729" y="254"/>
                    </a:lnTo>
                    <a:lnTo>
                      <a:pt x="744" y="254"/>
                    </a:lnTo>
                    <a:lnTo>
                      <a:pt x="763" y="249"/>
                    </a:lnTo>
                    <a:lnTo>
                      <a:pt x="777" y="244"/>
                    </a:lnTo>
                    <a:lnTo>
                      <a:pt x="792" y="244"/>
                    </a:lnTo>
                    <a:lnTo>
                      <a:pt x="811" y="240"/>
                    </a:lnTo>
                    <a:lnTo>
                      <a:pt x="825" y="235"/>
                    </a:lnTo>
                    <a:lnTo>
                      <a:pt x="835" y="230"/>
                    </a:lnTo>
                    <a:lnTo>
                      <a:pt x="849" y="225"/>
                    </a:lnTo>
                    <a:lnTo>
                      <a:pt x="864" y="220"/>
                    </a:lnTo>
                    <a:lnTo>
                      <a:pt x="873" y="216"/>
                    </a:lnTo>
                    <a:lnTo>
                      <a:pt x="883" y="216"/>
                    </a:lnTo>
                    <a:lnTo>
                      <a:pt x="893" y="211"/>
                    </a:lnTo>
                    <a:lnTo>
                      <a:pt x="907" y="201"/>
                    </a:lnTo>
                    <a:lnTo>
                      <a:pt x="917" y="201"/>
                    </a:lnTo>
                    <a:lnTo>
                      <a:pt x="921" y="196"/>
                    </a:lnTo>
                    <a:lnTo>
                      <a:pt x="931" y="187"/>
                    </a:lnTo>
                    <a:lnTo>
                      <a:pt x="936" y="182"/>
                    </a:lnTo>
                    <a:lnTo>
                      <a:pt x="945" y="177"/>
                    </a:lnTo>
                    <a:lnTo>
                      <a:pt x="950" y="177"/>
                    </a:lnTo>
                    <a:lnTo>
                      <a:pt x="955" y="168"/>
                    </a:lnTo>
                    <a:lnTo>
                      <a:pt x="955" y="163"/>
                    </a:lnTo>
                    <a:lnTo>
                      <a:pt x="960" y="158"/>
                    </a:lnTo>
                    <a:lnTo>
                      <a:pt x="960" y="153"/>
                    </a:lnTo>
                    <a:lnTo>
                      <a:pt x="965" y="148"/>
                    </a:lnTo>
                    <a:lnTo>
                      <a:pt x="965" y="144"/>
                    </a:lnTo>
                    <a:lnTo>
                      <a:pt x="965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625080" y="1523880"/>
                <a:ext cx="1909080" cy="520560"/>
              </a:xfrm>
              <a:custGeom>
                <a:avLst/>
                <a:gdLst/>
                <a:ahLst/>
                <a:rect l="l" t="t" r="r" b="b"/>
                <a:pathLst>
                  <a:path w="965" h="269">
                    <a:moveTo>
                      <a:pt x="446" y="0"/>
                    </a:moveTo>
                    <a:lnTo>
                      <a:pt x="465" y="0"/>
                    </a:lnTo>
                    <a:lnTo>
                      <a:pt x="494" y="0"/>
                    </a:lnTo>
                    <a:lnTo>
                      <a:pt x="509" y="0"/>
                    </a:lnTo>
                    <a:lnTo>
                      <a:pt x="528" y="0"/>
                    </a:lnTo>
                    <a:lnTo>
                      <a:pt x="547" y="0"/>
                    </a:lnTo>
                    <a:lnTo>
                      <a:pt x="571" y="5"/>
                    </a:lnTo>
                    <a:lnTo>
                      <a:pt x="590" y="5"/>
                    </a:lnTo>
                    <a:lnTo>
                      <a:pt x="605" y="5"/>
                    </a:lnTo>
                    <a:lnTo>
                      <a:pt x="633" y="10"/>
                    </a:lnTo>
                    <a:lnTo>
                      <a:pt x="648" y="10"/>
                    </a:lnTo>
                    <a:lnTo>
                      <a:pt x="667" y="10"/>
                    </a:lnTo>
                    <a:lnTo>
                      <a:pt x="681" y="15"/>
                    </a:lnTo>
                    <a:lnTo>
                      <a:pt x="705" y="19"/>
                    </a:lnTo>
                    <a:lnTo>
                      <a:pt x="720" y="19"/>
                    </a:lnTo>
                    <a:lnTo>
                      <a:pt x="734" y="24"/>
                    </a:lnTo>
                    <a:lnTo>
                      <a:pt x="758" y="24"/>
                    </a:lnTo>
                    <a:lnTo>
                      <a:pt x="773" y="29"/>
                    </a:lnTo>
                    <a:lnTo>
                      <a:pt x="787" y="34"/>
                    </a:lnTo>
                    <a:lnTo>
                      <a:pt x="801" y="34"/>
                    </a:lnTo>
                    <a:lnTo>
                      <a:pt x="821" y="39"/>
                    </a:lnTo>
                    <a:lnTo>
                      <a:pt x="830" y="43"/>
                    </a:lnTo>
                    <a:lnTo>
                      <a:pt x="845" y="48"/>
                    </a:lnTo>
                    <a:lnTo>
                      <a:pt x="859" y="53"/>
                    </a:lnTo>
                    <a:lnTo>
                      <a:pt x="869" y="58"/>
                    </a:lnTo>
                    <a:lnTo>
                      <a:pt x="878" y="63"/>
                    </a:lnTo>
                    <a:lnTo>
                      <a:pt x="888" y="63"/>
                    </a:lnTo>
                    <a:lnTo>
                      <a:pt x="902" y="72"/>
                    </a:lnTo>
                    <a:lnTo>
                      <a:pt x="912" y="72"/>
                    </a:lnTo>
                    <a:lnTo>
                      <a:pt x="917" y="77"/>
                    </a:lnTo>
                    <a:lnTo>
                      <a:pt x="931" y="87"/>
                    </a:lnTo>
                    <a:lnTo>
                      <a:pt x="936" y="91"/>
                    </a:lnTo>
                    <a:lnTo>
                      <a:pt x="941" y="96"/>
                    </a:lnTo>
                    <a:lnTo>
                      <a:pt x="945" y="101"/>
                    </a:lnTo>
                    <a:lnTo>
                      <a:pt x="950" y="106"/>
                    </a:lnTo>
                    <a:lnTo>
                      <a:pt x="955" y="111"/>
                    </a:lnTo>
                    <a:lnTo>
                      <a:pt x="960" y="115"/>
                    </a:lnTo>
                    <a:lnTo>
                      <a:pt x="960" y="120"/>
                    </a:lnTo>
                    <a:lnTo>
                      <a:pt x="965" y="125"/>
                    </a:lnTo>
                    <a:lnTo>
                      <a:pt x="965" y="130"/>
                    </a:lnTo>
                    <a:lnTo>
                      <a:pt x="965" y="135"/>
                    </a:lnTo>
                    <a:lnTo>
                      <a:pt x="960" y="144"/>
                    </a:lnTo>
                    <a:lnTo>
                      <a:pt x="960" y="149"/>
                    </a:lnTo>
                    <a:lnTo>
                      <a:pt x="960" y="154"/>
                    </a:lnTo>
                    <a:lnTo>
                      <a:pt x="955" y="159"/>
                    </a:lnTo>
                    <a:lnTo>
                      <a:pt x="950" y="163"/>
                    </a:lnTo>
                    <a:lnTo>
                      <a:pt x="945" y="168"/>
                    </a:lnTo>
                    <a:lnTo>
                      <a:pt x="941" y="173"/>
                    </a:lnTo>
                    <a:lnTo>
                      <a:pt x="931" y="178"/>
                    </a:lnTo>
                    <a:lnTo>
                      <a:pt x="926" y="183"/>
                    </a:lnTo>
                    <a:lnTo>
                      <a:pt x="917" y="187"/>
                    </a:lnTo>
                    <a:lnTo>
                      <a:pt x="907" y="192"/>
                    </a:lnTo>
                    <a:lnTo>
                      <a:pt x="897" y="197"/>
                    </a:lnTo>
                    <a:lnTo>
                      <a:pt x="888" y="202"/>
                    </a:lnTo>
                    <a:lnTo>
                      <a:pt x="878" y="207"/>
                    </a:lnTo>
                    <a:lnTo>
                      <a:pt x="864" y="211"/>
                    </a:lnTo>
                    <a:lnTo>
                      <a:pt x="854" y="216"/>
                    </a:lnTo>
                    <a:lnTo>
                      <a:pt x="845" y="221"/>
                    </a:lnTo>
                    <a:lnTo>
                      <a:pt x="825" y="226"/>
                    </a:lnTo>
                    <a:lnTo>
                      <a:pt x="811" y="231"/>
                    </a:lnTo>
                    <a:lnTo>
                      <a:pt x="801" y="231"/>
                    </a:lnTo>
                    <a:lnTo>
                      <a:pt x="787" y="235"/>
                    </a:lnTo>
                    <a:lnTo>
                      <a:pt x="763" y="240"/>
                    </a:lnTo>
                    <a:lnTo>
                      <a:pt x="749" y="240"/>
                    </a:lnTo>
                    <a:lnTo>
                      <a:pt x="734" y="245"/>
                    </a:lnTo>
                    <a:lnTo>
                      <a:pt x="715" y="250"/>
                    </a:lnTo>
                    <a:lnTo>
                      <a:pt x="696" y="250"/>
                    </a:lnTo>
                    <a:lnTo>
                      <a:pt x="681" y="255"/>
                    </a:lnTo>
                    <a:lnTo>
                      <a:pt x="667" y="255"/>
                    </a:lnTo>
                    <a:lnTo>
                      <a:pt x="643" y="259"/>
                    </a:lnTo>
                    <a:lnTo>
                      <a:pt x="624" y="259"/>
                    </a:lnTo>
                    <a:lnTo>
                      <a:pt x="605" y="259"/>
                    </a:lnTo>
                    <a:lnTo>
                      <a:pt x="581" y="264"/>
                    </a:lnTo>
                    <a:lnTo>
                      <a:pt x="561" y="264"/>
                    </a:lnTo>
                    <a:lnTo>
                      <a:pt x="547" y="264"/>
                    </a:lnTo>
                    <a:lnTo>
                      <a:pt x="528" y="264"/>
                    </a:lnTo>
                    <a:lnTo>
                      <a:pt x="499" y="269"/>
                    </a:lnTo>
                    <a:lnTo>
                      <a:pt x="485" y="269"/>
                    </a:lnTo>
                    <a:lnTo>
                      <a:pt x="465" y="269"/>
                    </a:lnTo>
                    <a:lnTo>
                      <a:pt x="437" y="269"/>
                    </a:lnTo>
                    <a:lnTo>
                      <a:pt x="422" y="269"/>
                    </a:lnTo>
                    <a:lnTo>
                      <a:pt x="403" y="269"/>
                    </a:lnTo>
                    <a:lnTo>
                      <a:pt x="384" y="269"/>
                    </a:lnTo>
                    <a:lnTo>
                      <a:pt x="360" y="264"/>
                    </a:lnTo>
                    <a:lnTo>
                      <a:pt x="341" y="264"/>
                    </a:lnTo>
                    <a:lnTo>
                      <a:pt x="321" y="264"/>
                    </a:lnTo>
                    <a:lnTo>
                      <a:pt x="297" y="264"/>
                    </a:lnTo>
                    <a:lnTo>
                      <a:pt x="278" y="259"/>
                    </a:lnTo>
                    <a:lnTo>
                      <a:pt x="264" y="259"/>
                    </a:lnTo>
                    <a:lnTo>
                      <a:pt x="245" y="259"/>
                    </a:lnTo>
                    <a:lnTo>
                      <a:pt x="221" y="255"/>
                    </a:lnTo>
                    <a:lnTo>
                      <a:pt x="206" y="250"/>
                    </a:lnTo>
                    <a:lnTo>
                      <a:pt x="187" y="250"/>
                    </a:lnTo>
                    <a:lnTo>
                      <a:pt x="168" y="245"/>
                    </a:lnTo>
                    <a:lnTo>
                      <a:pt x="153" y="245"/>
                    </a:lnTo>
                    <a:lnTo>
                      <a:pt x="139" y="240"/>
                    </a:lnTo>
                    <a:lnTo>
                      <a:pt x="125" y="240"/>
                    </a:lnTo>
                    <a:lnTo>
                      <a:pt x="101" y="235"/>
                    </a:lnTo>
                    <a:lnTo>
                      <a:pt x="91" y="231"/>
                    </a:lnTo>
                    <a:lnTo>
                      <a:pt x="77" y="226"/>
                    </a:lnTo>
                    <a:lnTo>
                      <a:pt x="57" y="221"/>
                    </a:lnTo>
                    <a:lnTo>
                      <a:pt x="48" y="216"/>
                    </a:lnTo>
                    <a:lnTo>
                      <a:pt x="33" y="216"/>
                    </a:lnTo>
                    <a:lnTo>
                      <a:pt x="24" y="211"/>
                    </a:lnTo>
                    <a:lnTo>
                      <a:pt x="9" y="207"/>
                    </a:lnTo>
                    <a:lnTo>
                      <a:pt x="0" y="202"/>
                    </a:lnTo>
                    <a:lnTo>
                      <a:pt x="446" y="135"/>
                    </a:lnTo>
                    <a:lnTo>
                      <a:pt x="446" y="0"/>
                    </a:lnTo>
                    <a:close/>
                  </a:path>
                </a:pathLst>
              </a:custGeom>
              <a:solidFill>
                <a:srgbClr val="0000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8478720" y="2255760"/>
              <a:ext cx="50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Futura Lt BT"/>
                </a:rPr>
                <a:t>64’29</a:t>
              </a:r>
              <a:r>
                <a:rPr b="0" lang="es-ES" sz="1200" spc="-1" strike="noStrike">
                  <a:solidFill>
                    <a:srgbClr val="000000"/>
                  </a:solidFill>
                  <a:latin typeface="Futura Lt BT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379920" y="1371600"/>
              <a:ext cx="50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Futura Lt BT"/>
                </a:rPr>
                <a:t>31’71</a:t>
              </a:r>
              <a:r>
                <a:rPr b="0" lang="es-ES" sz="1200" spc="-1" strike="noStrike">
                  <a:solidFill>
                    <a:srgbClr val="000000"/>
                  </a:solidFill>
                  <a:latin typeface="Futura Lt BT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5867280" y="2609640"/>
              <a:ext cx="2971800" cy="285480"/>
              <a:chOff x="5867280" y="2609640"/>
              <a:chExt cx="2971800" cy="285480"/>
            </a:xfrm>
          </p:grpSpPr>
          <p:sp>
            <p:nvSpPr>
              <p:cNvPr id="484" name=""/>
              <p:cNvSpPr/>
              <p:nvPr/>
            </p:nvSpPr>
            <p:spPr>
              <a:xfrm>
                <a:off x="5867280" y="2609640"/>
                <a:ext cx="2971800" cy="2854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938560" y="2680560"/>
                <a:ext cx="142920" cy="141120"/>
              </a:xfrm>
              <a:prstGeom prst="rect">
                <a:avLst/>
              </a:prstGeom>
              <a:solidFill>
                <a:srgbClr val="0000de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098760" y="2634480"/>
                <a:ext cx="69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utura Lt BT"/>
                  </a:rPr>
                  <a:t>Públic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857640" y="2693520"/>
                <a:ext cx="142920" cy="140760"/>
              </a:xfrm>
              <a:prstGeom prst="rect">
                <a:avLst/>
              </a:prstGeom>
              <a:solidFill>
                <a:srgbClr val="96969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986520" y="2647440"/>
                <a:ext cx="177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utura Lt BT"/>
                  </a:rPr>
                  <a:t>Privadas/de la Igles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457200" y="5025960"/>
            <a:ext cx="2438280" cy="1603800"/>
            <a:chOff x="457200" y="5025960"/>
            <a:chExt cx="2438280" cy="1603800"/>
          </a:xfrm>
        </p:grpSpPr>
        <p:grpSp>
          <p:nvGrpSpPr>
            <p:cNvPr id="490" name=""/>
            <p:cNvGrpSpPr/>
            <p:nvPr/>
          </p:nvGrpSpPr>
          <p:grpSpPr>
            <a:xfrm>
              <a:off x="685800" y="5257440"/>
              <a:ext cx="2209320" cy="815400"/>
              <a:chOff x="685800" y="5257440"/>
              <a:chExt cx="2209320" cy="815400"/>
            </a:xfrm>
          </p:grpSpPr>
          <p:sp>
            <p:nvSpPr>
              <p:cNvPr id="491" name=""/>
              <p:cNvSpPr/>
              <p:nvPr/>
            </p:nvSpPr>
            <p:spPr>
              <a:xfrm>
                <a:off x="1789200" y="5257440"/>
                <a:ext cx="551160" cy="266760"/>
              </a:xfrm>
              <a:custGeom>
                <a:avLst/>
                <a:gdLst/>
                <a:ahLst/>
                <a:rect l="l" t="t" r="r" b="b"/>
                <a:pathLst>
                  <a:path w="211" h="110">
                    <a:moveTo>
                      <a:pt x="0" y="0"/>
                    </a:moveTo>
                    <a:lnTo>
                      <a:pt x="19" y="0"/>
                    </a:lnTo>
                    <a:lnTo>
                      <a:pt x="34" y="0"/>
                    </a:lnTo>
                    <a:lnTo>
                      <a:pt x="58" y="0"/>
                    </a:lnTo>
                    <a:lnTo>
                      <a:pt x="72" y="0"/>
                    </a:lnTo>
                    <a:lnTo>
                      <a:pt x="96" y="0"/>
                    </a:lnTo>
                    <a:lnTo>
                      <a:pt x="111" y="4"/>
                    </a:lnTo>
                    <a:lnTo>
                      <a:pt x="130" y="4"/>
                    </a:lnTo>
                    <a:lnTo>
                      <a:pt x="144" y="4"/>
                    </a:lnTo>
                    <a:lnTo>
                      <a:pt x="163" y="9"/>
                    </a:lnTo>
                    <a:lnTo>
                      <a:pt x="178" y="9"/>
                    </a:lnTo>
                    <a:lnTo>
                      <a:pt x="197" y="9"/>
                    </a:lnTo>
                    <a:lnTo>
                      <a:pt x="211" y="14"/>
                    </a:lnTo>
                    <a:lnTo>
                      <a:pt x="0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5800" y="5524200"/>
                <a:ext cx="2209320" cy="548640"/>
              </a:xfrm>
              <a:custGeom>
                <a:avLst/>
                <a:gdLst/>
                <a:ahLst/>
                <a:rect l="l" t="t" r="r" b="b"/>
                <a:pathLst>
                  <a:path w="845" h="226">
                    <a:moveTo>
                      <a:pt x="845" y="0"/>
                    </a:moveTo>
                    <a:lnTo>
                      <a:pt x="845" y="5"/>
                    </a:lnTo>
                    <a:lnTo>
                      <a:pt x="840" y="10"/>
                    </a:lnTo>
                    <a:lnTo>
                      <a:pt x="840" y="14"/>
                    </a:lnTo>
                    <a:lnTo>
                      <a:pt x="835" y="19"/>
                    </a:lnTo>
                    <a:lnTo>
                      <a:pt x="830" y="24"/>
                    </a:lnTo>
                    <a:lnTo>
                      <a:pt x="825" y="29"/>
                    </a:lnTo>
                    <a:lnTo>
                      <a:pt x="821" y="34"/>
                    </a:lnTo>
                    <a:lnTo>
                      <a:pt x="816" y="38"/>
                    </a:lnTo>
                    <a:lnTo>
                      <a:pt x="811" y="43"/>
                    </a:lnTo>
                    <a:lnTo>
                      <a:pt x="801" y="48"/>
                    </a:lnTo>
                    <a:lnTo>
                      <a:pt x="792" y="53"/>
                    </a:lnTo>
                    <a:lnTo>
                      <a:pt x="782" y="58"/>
                    </a:lnTo>
                    <a:lnTo>
                      <a:pt x="773" y="62"/>
                    </a:lnTo>
                    <a:lnTo>
                      <a:pt x="758" y="67"/>
                    </a:lnTo>
                    <a:lnTo>
                      <a:pt x="749" y="67"/>
                    </a:lnTo>
                    <a:lnTo>
                      <a:pt x="734" y="72"/>
                    </a:lnTo>
                    <a:lnTo>
                      <a:pt x="725" y="77"/>
                    </a:lnTo>
                    <a:lnTo>
                      <a:pt x="710" y="82"/>
                    </a:lnTo>
                    <a:lnTo>
                      <a:pt x="691" y="82"/>
                    </a:lnTo>
                    <a:lnTo>
                      <a:pt x="681" y="86"/>
                    </a:lnTo>
                    <a:lnTo>
                      <a:pt x="662" y="91"/>
                    </a:lnTo>
                    <a:lnTo>
                      <a:pt x="653" y="91"/>
                    </a:lnTo>
                    <a:lnTo>
                      <a:pt x="633" y="96"/>
                    </a:lnTo>
                    <a:lnTo>
                      <a:pt x="614" y="96"/>
                    </a:lnTo>
                    <a:lnTo>
                      <a:pt x="600" y="101"/>
                    </a:lnTo>
                    <a:lnTo>
                      <a:pt x="581" y="101"/>
                    </a:lnTo>
                    <a:lnTo>
                      <a:pt x="566" y="101"/>
                    </a:lnTo>
                    <a:lnTo>
                      <a:pt x="542" y="106"/>
                    </a:lnTo>
                    <a:lnTo>
                      <a:pt x="523" y="106"/>
                    </a:lnTo>
                    <a:lnTo>
                      <a:pt x="509" y="106"/>
                    </a:lnTo>
                    <a:lnTo>
                      <a:pt x="489" y="106"/>
                    </a:lnTo>
                    <a:lnTo>
                      <a:pt x="470" y="110"/>
                    </a:lnTo>
                    <a:lnTo>
                      <a:pt x="451" y="110"/>
                    </a:lnTo>
                    <a:lnTo>
                      <a:pt x="427" y="110"/>
                    </a:lnTo>
                    <a:lnTo>
                      <a:pt x="413" y="110"/>
                    </a:lnTo>
                    <a:lnTo>
                      <a:pt x="393" y="110"/>
                    </a:lnTo>
                    <a:lnTo>
                      <a:pt x="369" y="110"/>
                    </a:lnTo>
                    <a:lnTo>
                      <a:pt x="355" y="106"/>
                    </a:lnTo>
                    <a:lnTo>
                      <a:pt x="331" y="106"/>
                    </a:lnTo>
                    <a:lnTo>
                      <a:pt x="317" y="106"/>
                    </a:lnTo>
                    <a:lnTo>
                      <a:pt x="297" y="106"/>
                    </a:lnTo>
                    <a:lnTo>
                      <a:pt x="278" y="101"/>
                    </a:lnTo>
                    <a:lnTo>
                      <a:pt x="264" y="101"/>
                    </a:lnTo>
                    <a:lnTo>
                      <a:pt x="245" y="101"/>
                    </a:lnTo>
                    <a:lnTo>
                      <a:pt x="230" y="96"/>
                    </a:lnTo>
                    <a:lnTo>
                      <a:pt x="211" y="96"/>
                    </a:lnTo>
                    <a:lnTo>
                      <a:pt x="192" y="91"/>
                    </a:lnTo>
                    <a:lnTo>
                      <a:pt x="177" y="91"/>
                    </a:lnTo>
                    <a:lnTo>
                      <a:pt x="163" y="86"/>
                    </a:lnTo>
                    <a:lnTo>
                      <a:pt x="149" y="82"/>
                    </a:lnTo>
                    <a:lnTo>
                      <a:pt x="134" y="82"/>
                    </a:lnTo>
                    <a:lnTo>
                      <a:pt x="115" y="77"/>
                    </a:lnTo>
                    <a:lnTo>
                      <a:pt x="105" y="72"/>
                    </a:lnTo>
                    <a:lnTo>
                      <a:pt x="91" y="67"/>
                    </a:lnTo>
                    <a:lnTo>
                      <a:pt x="81" y="67"/>
                    </a:lnTo>
                    <a:lnTo>
                      <a:pt x="72" y="62"/>
                    </a:lnTo>
                    <a:lnTo>
                      <a:pt x="57" y="58"/>
                    </a:lnTo>
                    <a:lnTo>
                      <a:pt x="53" y="53"/>
                    </a:lnTo>
                    <a:lnTo>
                      <a:pt x="43" y="48"/>
                    </a:lnTo>
                    <a:lnTo>
                      <a:pt x="33" y="43"/>
                    </a:lnTo>
                    <a:lnTo>
                      <a:pt x="29" y="38"/>
                    </a:lnTo>
                    <a:lnTo>
                      <a:pt x="19" y="34"/>
                    </a:lnTo>
                    <a:lnTo>
                      <a:pt x="14" y="29"/>
                    </a:lnTo>
                    <a:lnTo>
                      <a:pt x="9" y="24"/>
                    </a:lnTo>
                    <a:lnTo>
                      <a:pt x="5" y="19"/>
                    </a:lnTo>
                    <a:lnTo>
                      <a:pt x="5" y="14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0" y="120"/>
                    </a:lnTo>
                    <a:lnTo>
                      <a:pt x="0" y="125"/>
                    </a:lnTo>
                    <a:lnTo>
                      <a:pt x="5" y="130"/>
                    </a:lnTo>
                    <a:lnTo>
                      <a:pt x="5" y="134"/>
                    </a:lnTo>
                    <a:lnTo>
                      <a:pt x="9" y="139"/>
                    </a:lnTo>
                    <a:lnTo>
                      <a:pt x="14" y="144"/>
                    </a:lnTo>
                    <a:lnTo>
                      <a:pt x="19" y="149"/>
                    </a:lnTo>
                    <a:lnTo>
                      <a:pt x="29" y="154"/>
                    </a:lnTo>
                    <a:lnTo>
                      <a:pt x="33" y="158"/>
                    </a:lnTo>
                    <a:lnTo>
                      <a:pt x="43" y="163"/>
                    </a:lnTo>
                    <a:lnTo>
                      <a:pt x="53" y="168"/>
                    </a:lnTo>
                    <a:lnTo>
                      <a:pt x="57" y="173"/>
                    </a:lnTo>
                    <a:lnTo>
                      <a:pt x="72" y="178"/>
                    </a:lnTo>
                    <a:lnTo>
                      <a:pt x="81" y="182"/>
                    </a:lnTo>
                    <a:lnTo>
                      <a:pt x="91" y="182"/>
                    </a:lnTo>
                    <a:lnTo>
                      <a:pt x="105" y="187"/>
                    </a:lnTo>
                    <a:lnTo>
                      <a:pt x="115" y="192"/>
                    </a:lnTo>
                    <a:lnTo>
                      <a:pt x="134" y="197"/>
                    </a:lnTo>
                    <a:lnTo>
                      <a:pt x="149" y="197"/>
                    </a:lnTo>
                    <a:lnTo>
                      <a:pt x="163" y="202"/>
                    </a:lnTo>
                    <a:lnTo>
                      <a:pt x="177" y="206"/>
                    </a:lnTo>
                    <a:lnTo>
                      <a:pt x="192" y="206"/>
                    </a:lnTo>
                    <a:lnTo>
                      <a:pt x="211" y="211"/>
                    </a:lnTo>
                    <a:lnTo>
                      <a:pt x="230" y="211"/>
                    </a:lnTo>
                    <a:lnTo>
                      <a:pt x="245" y="216"/>
                    </a:lnTo>
                    <a:lnTo>
                      <a:pt x="264" y="216"/>
                    </a:lnTo>
                    <a:lnTo>
                      <a:pt x="278" y="216"/>
                    </a:lnTo>
                    <a:lnTo>
                      <a:pt x="297" y="221"/>
                    </a:lnTo>
                    <a:lnTo>
                      <a:pt x="317" y="221"/>
                    </a:lnTo>
                    <a:lnTo>
                      <a:pt x="331" y="221"/>
                    </a:lnTo>
                    <a:lnTo>
                      <a:pt x="355" y="221"/>
                    </a:lnTo>
                    <a:lnTo>
                      <a:pt x="369" y="226"/>
                    </a:lnTo>
                    <a:lnTo>
                      <a:pt x="393" y="226"/>
                    </a:lnTo>
                    <a:lnTo>
                      <a:pt x="413" y="226"/>
                    </a:lnTo>
                    <a:lnTo>
                      <a:pt x="427" y="226"/>
                    </a:lnTo>
                    <a:lnTo>
                      <a:pt x="451" y="226"/>
                    </a:lnTo>
                    <a:lnTo>
                      <a:pt x="470" y="226"/>
                    </a:lnTo>
                    <a:lnTo>
                      <a:pt x="489" y="221"/>
                    </a:lnTo>
                    <a:lnTo>
                      <a:pt x="509" y="221"/>
                    </a:lnTo>
                    <a:lnTo>
                      <a:pt x="523" y="221"/>
                    </a:lnTo>
                    <a:lnTo>
                      <a:pt x="542" y="221"/>
                    </a:lnTo>
                    <a:lnTo>
                      <a:pt x="566" y="216"/>
                    </a:lnTo>
                    <a:lnTo>
                      <a:pt x="581" y="216"/>
                    </a:lnTo>
                    <a:lnTo>
                      <a:pt x="600" y="216"/>
                    </a:lnTo>
                    <a:lnTo>
                      <a:pt x="614" y="211"/>
                    </a:lnTo>
                    <a:lnTo>
                      <a:pt x="633" y="211"/>
                    </a:lnTo>
                    <a:lnTo>
                      <a:pt x="653" y="206"/>
                    </a:lnTo>
                    <a:lnTo>
                      <a:pt x="662" y="206"/>
                    </a:lnTo>
                    <a:lnTo>
                      <a:pt x="681" y="202"/>
                    </a:lnTo>
                    <a:lnTo>
                      <a:pt x="691" y="197"/>
                    </a:lnTo>
                    <a:lnTo>
                      <a:pt x="710" y="197"/>
                    </a:lnTo>
                    <a:lnTo>
                      <a:pt x="725" y="192"/>
                    </a:lnTo>
                    <a:lnTo>
                      <a:pt x="734" y="187"/>
                    </a:lnTo>
                    <a:lnTo>
                      <a:pt x="749" y="182"/>
                    </a:lnTo>
                    <a:lnTo>
                      <a:pt x="758" y="182"/>
                    </a:lnTo>
                    <a:lnTo>
                      <a:pt x="773" y="178"/>
                    </a:lnTo>
                    <a:lnTo>
                      <a:pt x="782" y="173"/>
                    </a:lnTo>
                    <a:lnTo>
                      <a:pt x="792" y="168"/>
                    </a:lnTo>
                    <a:lnTo>
                      <a:pt x="801" y="163"/>
                    </a:lnTo>
                    <a:lnTo>
                      <a:pt x="811" y="158"/>
                    </a:lnTo>
                    <a:lnTo>
                      <a:pt x="816" y="154"/>
                    </a:lnTo>
                    <a:lnTo>
                      <a:pt x="821" y="149"/>
                    </a:lnTo>
                    <a:lnTo>
                      <a:pt x="825" y="144"/>
                    </a:lnTo>
                    <a:lnTo>
                      <a:pt x="830" y="139"/>
                    </a:lnTo>
                    <a:lnTo>
                      <a:pt x="835" y="134"/>
                    </a:lnTo>
                    <a:lnTo>
                      <a:pt x="840" y="130"/>
                    </a:lnTo>
                    <a:lnTo>
                      <a:pt x="840" y="125"/>
                    </a:lnTo>
                    <a:lnTo>
                      <a:pt x="845" y="120"/>
                    </a:lnTo>
                    <a:lnTo>
                      <a:pt x="845" y="115"/>
                    </a:lnTo>
                    <a:lnTo>
                      <a:pt x="845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85800" y="5257440"/>
                <a:ext cx="2209320" cy="533880"/>
              </a:xfrm>
              <a:custGeom>
                <a:avLst/>
                <a:gdLst/>
                <a:ahLst/>
                <a:rect l="l" t="t" r="r" b="b"/>
                <a:pathLst>
                  <a:path w="845" h="220">
                    <a:moveTo>
                      <a:pt x="633" y="14"/>
                    </a:moveTo>
                    <a:lnTo>
                      <a:pt x="653" y="14"/>
                    </a:lnTo>
                    <a:lnTo>
                      <a:pt x="662" y="19"/>
                    </a:lnTo>
                    <a:lnTo>
                      <a:pt x="681" y="24"/>
                    </a:lnTo>
                    <a:lnTo>
                      <a:pt x="691" y="24"/>
                    </a:lnTo>
                    <a:lnTo>
                      <a:pt x="710" y="28"/>
                    </a:lnTo>
                    <a:lnTo>
                      <a:pt x="725" y="33"/>
                    </a:lnTo>
                    <a:lnTo>
                      <a:pt x="734" y="33"/>
                    </a:lnTo>
                    <a:lnTo>
                      <a:pt x="749" y="38"/>
                    </a:lnTo>
                    <a:lnTo>
                      <a:pt x="763" y="43"/>
                    </a:lnTo>
                    <a:lnTo>
                      <a:pt x="773" y="48"/>
                    </a:lnTo>
                    <a:lnTo>
                      <a:pt x="782" y="52"/>
                    </a:lnTo>
                    <a:lnTo>
                      <a:pt x="792" y="57"/>
                    </a:lnTo>
                    <a:lnTo>
                      <a:pt x="801" y="62"/>
                    </a:lnTo>
                    <a:lnTo>
                      <a:pt x="811" y="67"/>
                    </a:lnTo>
                    <a:lnTo>
                      <a:pt x="816" y="72"/>
                    </a:lnTo>
                    <a:lnTo>
                      <a:pt x="821" y="76"/>
                    </a:lnTo>
                    <a:lnTo>
                      <a:pt x="830" y="81"/>
                    </a:lnTo>
                    <a:lnTo>
                      <a:pt x="830" y="86"/>
                    </a:lnTo>
                    <a:lnTo>
                      <a:pt x="835" y="91"/>
                    </a:lnTo>
                    <a:lnTo>
                      <a:pt x="840" y="96"/>
                    </a:lnTo>
                    <a:lnTo>
                      <a:pt x="840" y="100"/>
                    </a:lnTo>
                    <a:lnTo>
                      <a:pt x="845" y="105"/>
                    </a:lnTo>
                    <a:lnTo>
                      <a:pt x="845" y="110"/>
                    </a:lnTo>
                    <a:lnTo>
                      <a:pt x="845" y="115"/>
                    </a:lnTo>
                    <a:lnTo>
                      <a:pt x="840" y="120"/>
                    </a:lnTo>
                    <a:lnTo>
                      <a:pt x="840" y="124"/>
                    </a:lnTo>
                    <a:lnTo>
                      <a:pt x="835" y="129"/>
                    </a:lnTo>
                    <a:lnTo>
                      <a:pt x="830" y="134"/>
                    </a:lnTo>
                    <a:lnTo>
                      <a:pt x="825" y="139"/>
                    </a:lnTo>
                    <a:lnTo>
                      <a:pt x="821" y="144"/>
                    </a:lnTo>
                    <a:lnTo>
                      <a:pt x="816" y="148"/>
                    </a:lnTo>
                    <a:lnTo>
                      <a:pt x="806" y="153"/>
                    </a:lnTo>
                    <a:lnTo>
                      <a:pt x="801" y="158"/>
                    </a:lnTo>
                    <a:lnTo>
                      <a:pt x="792" y="163"/>
                    </a:lnTo>
                    <a:lnTo>
                      <a:pt x="777" y="168"/>
                    </a:lnTo>
                    <a:lnTo>
                      <a:pt x="773" y="172"/>
                    </a:lnTo>
                    <a:lnTo>
                      <a:pt x="758" y="177"/>
                    </a:lnTo>
                    <a:lnTo>
                      <a:pt x="744" y="182"/>
                    </a:lnTo>
                    <a:lnTo>
                      <a:pt x="734" y="182"/>
                    </a:lnTo>
                    <a:lnTo>
                      <a:pt x="720" y="187"/>
                    </a:lnTo>
                    <a:lnTo>
                      <a:pt x="710" y="192"/>
                    </a:lnTo>
                    <a:lnTo>
                      <a:pt x="691" y="192"/>
                    </a:lnTo>
                    <a:lnTo>
                      <a:pt x="677" y="196"/>
                    </a:lnTo>
                    <a:lnTo>
                      <a:pt x="662" y="201"/>
                    </a:lnTo>
                    <a:lnTo>
                      <a:pt x="643" y="201"/>
                    </a:lnTo>
                    <a:lnTo>
                      <a:pt x="633" y="206"/>
                    </a:lnTo>
                    <a:lnTo>
                      <a:pt x="614" y="206"/>
                    </a:lnTo>
                    <a:lnTo>
                      <a:pt x="595" y="211"/>
                    </a:lnTo>
                    <a:lnTo>
                      <a:pt x="581" y="211"/>
                    </a:lnTo>
                    <a:lnTo>
                      <a:pt x="557" y="211"/>
                    </a:lnTo>
                    <a:lnTo>
                      <a:pt x="537" y="216"/>
                    </a:lnTo>
                    <a:lnTo>
                      <a:pt x="523" y="216"/>
                    </a:lnTo>
                    <a:lnTo>
                      <a:pt x="504" y="216"/>
                    </a:lnTo>
                    <a:lnTo>
                      <a:pt x="489" y="216"/>
                    </a:lnTo>
                    <a:lnTo>
                      <a:pt x="465" y="220"/>
                    </a:lnTo>
                    <a:lnTo>
                      <a:pt x="441" y="220"/>
                    </a:lnTo>
                    <a:lnTo>
                      <a:pt x="427" y="220"/>
                    </a:lnTo>
                    <a:lnTo>
                      <a:pt x="408" y="220"/>
                    </a:lnTo>
                    <a:lnTo>
                      <a:pt x="384" y="220"/>
                    </a:lnTo>
                    <a:lnTo>
                      <a:pt x="369" y="220"/>
                    </a:lnTo>
                    <a:lnTo>
                      <a:pt x="345" y="216"/>
                    </a:lnTo>
                    <a:lnTo>
                      <a:pt x="331" y="216"/>
                    </a:lnTo>
                    <a:lnTo>
                      <a:pt x="312" y="216"/>
                    </a:lnTo>
                    <a:lnTo>
                      <a:pt x="293" y="216"/>
                    </a:lnTo>
                    <a:lnTo>
                      <a:pt x="278" y="211"/>
                    </a:lnTo>
                    <a:lnTo>
                      <a:pt x="254" y="211"/>
                    </a:lnTo>
                    <a:lnTo>
                      <a:pt x="245" y="211"/>
                    </a:lnTo>
                    <a:lnTo>
                      <a:pt x="221" y="206"/>
                    </a:lnTo>
                    <a:lnTo>
                      <a:pt x="201" y="201"/>
                    </a:lnTo>
                    <a:lnTo>
                      <a:pt x="192" y="201"/>
                    </a:lnTo>
                    <a:lnTo>
                      <a:pt x="173" y="196"/>
                    </a:lnTo>
                    <a:lnTo>
                      <a:pt x="153" y="196"/>
                    </a:lnTo>
                    <a:lnTo>
                      <a:pt x="144" y="192"/>
                    </a:lnTo>
                    <a:lnTo>
                      <a:pt x="129" y="187"/>
                    </a:lnTo>
                    <a:lnTo>
                      <a:pt x="115" y="187"/>
                    </a:lnTo>
                    <a:lnTo>
                      <a:pt x="101" y="182"/>
                    </a:lnTo>
                    <a:lnTo>
                      <a:pt x="86" y="177"/>
                    </a:lnTo>
                    <a:lnTo>
                      <a:pt x="81" y="172"/>
                    </a:lnTo>
                    <a:lnTo>
                      <a:pt x="67" y="168"/>
                    </a:lnTo>
                    <a:lnTo>
                      <a:pt x="57" y="163"/>
                    </a:lnTo>
                    <a:lnTo>
                      <a:pt x="48" y="163"/>
                    </a:lnTo>
                    <a:lnTo>
                      <a:pt x="38" y="153"/>
                    </a:lnTo>
                    <a:lnTo>
                      <a:pt x="33" y="153"/>
                    </a:lnTo>
                    <a:lnTo>
                      <a:pt x="24" y="148"/>
                    </a:lnTo>
                    <a:lnTo>
                      <a:pt x="19" y="139"/>
                    </a:lnTo>
                    <a:lnTo>
                      <a:pt x="14" y="139"/>
                    </a:lnTo>
                    <a:lnTo>
                      <a:pt x="9" y="134"/>
                    </a:lnTo>
                    <a:lnTo>
                      <a:pt x="5" y="129"/>
                    </a:lnTo>
                    <a:lnTo>
                      <a:pt x="0" y="124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05"/>
                    </a:lnTo>
                    <a:lnTo>
                      <a:pt x="0" y="100"/>
                    </a:lnTo>
                    <a:lnTo>
                      <a:pt x="0" y="96"/>
                    </a:lnTo>
                    <a:lnTo>
                      <a:pt x="5" y="91"/>
                    </a:lnTo>
                    <a:lnTo>
                      <a:pt x="5" y="86"/>
                    </a:lnTo>
                    <a:lnTo>
                      <a:pt x="9" y="81"/>
                    </a:lnTo>
                    <a:lnTo>
                      <a:pt x="19" y="76"/>
                    </a:lnTo>
                    <a:lnTo>
                      <a:pt x="24" y="72"/>
                    </a:lnTo>
                    <a:lnTo>
                      <a:pt x="29" y="67"/>
                    </a:lnTo>
                    <a:lnTo>
                      <a:pt x="38" y="62"/>
                    </a:lnTo>
                    <a:lnTo>
                      <a:pt x="43" y="57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77" y="48"/>
                    </a:lnTo>
                    <a:lnTo>
                      <a:pt x="86" y="43"/>
                    </a:lnTo>
                    <a:lnTo>
                      <a:pt x="96" y="38"/>
                    </a:lnTo>
                    <a:lnTo>
                      <a:pt x="110" y="33"/>
                    </a:lnTo>
                    <a:lnTo>
                      <a:pt x="125" y="28"/>
                    </a:lnTo>
                    <a:lnTo>
                      <a:pt x="139" y="28"/>
                    </a:lnTo>
                    <a:lnTo>
                      <a:pt x="153" y="24"/>
                    </a:lnTo>
                    <a:lnTo>
                      <a:pt x="168" y="19"/>
                    </a:lnTo>
                    <a:lnTo>
                      <a:pt x="187" y="19"/>
                    </a:lnTo>
                    <a:lnTo>
                      <a:pt x="201" y="14"/>
                    </a:lnTo>
                    <a:lnTo>
                      <a:pt x="216" y="14"/>
                    </a:lnTo>
                    <a:lnTo>
                      <a:pt x="235" y="9"/>
                    </a:lnTo>
                    <a:lnTo>
                      <a:pt x="249" y="9"/>
                    </a:lnTo>
                    <a:lnTo>
                      <a:pt x="269" y="4"/>
                    </a:lnTo>
                    <a:lnTo>
                      <a:pt x="293" y="4"/>
                    </a:lnTo>
                    <a:lnTo>
                      <a:pt x="302" y="4"/>
                    </a:lnTo>
                    <a:lnTo>
                      <a:pt x="326" y="0"/>
                    </a:lnTo>
                    <a:lnTo>
                      <a:pt x="345" y="0"/>
                    </a:lnTo>
                    <a:lnTo>
                      <a:pt x="365" y="0"/>
                    </a:lnTo>
                    <a:lnTo>
                      <a:pt x="384" y="0"/>
                    </a:lnTo>
                    <a:lnTo>
                      <a:pt x="398" y="0"/>
                    </a:lnTo>
                    <a:lnTo>
                      <a:pt x="422" y="0"/>
                    </a:lnTo>
                    <a:lnTo>
                      <a:pt x="422" y="110"/>
                    </a:lnTo>
                    <a:lnTo>
                      <a:pt x="633" y="14"/>
                    </a:lnTo>
                    <a:close/>
                  </a:path>
                </a:pathLst>
              </a:custGeom>
              <a:solidFill>
                <a:srgbClr val="0000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1967760" y="5025960"/>
              <a:ext cx="25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utura Lt BT"/>
                </a:rPr>
                <a:t>8</a:t>
              </a:r>
              <a:r>
                <a:rPr b="0" lang="es-ES" sz="1400" spc="-1" strike="noStrike">
                  <a:solidFill>
                    <a:srgbClr val="000000"/>
                  </a:solidFill>
                  <a:latin typeface="Futura Lt BT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8440" y="6057720"/>
              <a:ext cx="353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Futura Lt BT"/>
                </a:rPr>
                <a:t>9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Futura Lt BT"/>
                </a:rPr>
                <a:t>2</a:t>
              </a:r>
              <a:r>
                <a:rPr b="0" lang="es-ES" sz="1400" spc="-1" strike="noStrike">
                  <a:solidFill>
                    <a:srgbClr val="000000"/>
                  </a:solidFill>
                  <a:latin typeface="Futura Lt BT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457200" y="6392520"/>
              <a:ext cx="2438280" cy="237240"/>
              <a:chOff x="457200" y="6392520"/>
              <a:chExt cx="2438280" cy="237240"/>
            </a:xfrm>
          </p:grpSpPr>
          <p:sp>
            <p:nvSpPr>
              <p:cNvPr id="497" name=""/>
              <p:cNvSpPr/>
              <p:nvPr/>
            </p:nvSpPr>
            <p:spPr>
              <a:xfrm>
                <a:off x="457200" y="6392520"/>
                <a:ext cx="2438280" cy="2365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02920" y="6468480"/>
                <a:ext cx="90360" cy="92160"/>
              </a:xfrm>
              <a:prstGeom prst="rect">
                <a:avLst/>
              </a:prstGeom>
              <a:solidFill>
                <a:srgbClr val="c0c0c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10920" y="6416280"/>
                <a:ext cx="936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Futura Lt BT"/>
                  </a:rPr>
                  <a:t>Sello EFQ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04880" y="6468480"/>
                <a:ext cx="91440" cy="92160"/>
              </a:xfrm>
              <a:prstGeom prst="rect">
                <a:avLst/>
              </a:prstGeom>
              <a:solidFill>
                <a:srgbClr val="0000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87320" y="6416280"/>
                <a:ext cx="1132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Futura Lt BT"/>
                  </a:rPr>
                  <a:t>No evaluad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3257640" y="5162400"/>
            <a:ext cx="5505480" cy="1410480"/>
            <a:chOff x="3257640" y="5162400"/>
            <a:chExt cx="5505480" cy="1410480"/>
          </a:xfrm>
        </p:grpSpPr>
        <p:sp>
          <p:nvSpPr>
            <p:cNvPr id="503" name=""/>
            <p:cNvSpPr/>
            <p:nvPr/>
          </p:nvSpPr>
          <p:spPr>
            <a:xfrm>
              <a:off x="3257640" y="5162400"/>
              <a:ext cx="5505480" cy="1390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3448080" y="5200560"/>
              <a:ext cx="3676680" cy="580680"/>
              <a:chOff x="3448080" y="5200560"/>
              <a:chExt cx="3676680" cy="58068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3500280" y="5200560"/>
                <a:ext cx="3624480" cy="580680"/>
                <a:chOff x="3500280" y="5200560"/>
                <a:chExt cx="3624480" cy="5806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3578040" y="5200560"/>
                  <a:ext cx="3546720" cy="5806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Miguel Hernández. Or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500280" y="528876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" name=""/>
              <p:cNvSpPr/>
              <p:nvPr/>
            </p:nvSpPr>
            <p:spPr>
              <a:xfrm>
                <a:off x="3448080" y="5276520"/>
                <a:ext cx="152280" cy="15516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3448080" y="5429160"/>
              <a:ext cx="3676680" cy="337320"/>
              <a:chOff x="3448080" y="5429160"/>
              <a:chExt cx="3676680" cy="33732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3500280" y="5429160"/>
                <a:ext cx="3624480" cy="337320"/>
                <a:chOff x="3500280" y="5429160"/>
                <a:chExt cx="3624480" cy="33732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3578040" y="5429160"/>
                  <a:ext cx="354672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del País Vas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500280" y="551736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3448080" y="5505120"/>
                <a:ext cx="152280" cy="15516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3448080" y="5638680"/>
              <a:ext cx="3943080" cy="337320"/>
              <a:chOff x="3448080" y="5638680"/>
              <a:chExt cx="3943080" cy="33732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3503880" y="5638680"/>
                <a:ext cx="3887280" cy="337320"/>
                <a:chOff x="3503880" y="5638680"/>
                <a:chExt cx="3887280" cy="3373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3587400" y="5638680"/>
                  <a:ext cx="380376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Politécnica de Cataluñ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503880" y="5726880"/>
                  <a:ext cx="7272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>
                <a:off x="3448080" y="5715000"/>
                <a:ext cx="163080" cy="1555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3448080" y="6045120"/>
              <a:ext cx="3676680" cy="337320"/>
              <a:chOff x="3448080" y="6045120"/>
              <a:chExt cx="3676680" cy="337320"/>
            </a:xfrm>
          </p:grpSpPr>
          <p:grpSp>
            <p:nvGrpSpPr>
              <p:cNvPr id="520" name=""/>
              <p:cNvGrpSpPr/>
              <p:nvPr/>
            </p:nvGrpSpPr>
            <p:grpSpPr>
              <a:xfrm>
                <a:off x="3500280" y="6045120"/>
                <a:ext cx="3624480" cy="337320"/>
                <a:chOff x="3500280" y="6045120"/>
                <a:chExt cx="3624480" cy="3373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578040" y="6045120"/>
                  <a:ext cx="354672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de Salaman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500280" y="613332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>
                <a:off x="3448080" y="6121080"/>
                <a:ext cx="152280" cy="15516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3448080" y="5835240"/>
              <a:ext cx="3676680" cy="337320"/>
              <a:chOff x="3448080" y="5835240"/>
              <a:chExt cx="3676680" cy="33732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3500280" y="5835240"/>
                <a:ext cx="3624480" cy="337320"/>
                <a:chOff x="3500280" y="5835240"/>
                <a:chExt cx="3624480" cy="3373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578040" y="5835240"/>
                  <a:ext cx="354672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de Sevill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500280" y="592344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>
                <a:off x="3448080" y="5911560"/>
                <a:ext cx="152280" cy="1555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3448080" y="6235560"/>
              <a:ext cx="4019400" cy="337320"/>
              <a:chOff x="3448080" y="6235560"/>
              <a:chExt cx="4019400" cy="33732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500280" y="6235560"/>
                <a:ext cx="3967200" cy="337320"/>
                <a:chOff x="3500280" y="6235560"/>
                <a:chExt cx="3967200" cy="3373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586320" y="6235560"/>
                  <a:ext cx="388116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de Castilla-La Manch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500280" y="6323760"/>
                  <a:ext cx="7452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3448080" y="6330600"/>
                <a:ext cx="152280" cy="1555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4" name=""/>
          <p:cNvGrpSpPr/>
          <p:nvPr/>
        </p:nvGrpSpPr>
        <p:grpSpPr>
          <a:xfrm>
            <a:off x="533520" y="3200400"/>
            <a:ext cx="8248680" cy="1711080"/>
            <a:chOff x="533520" y="3200400"/>
            <a:chExt cx="8248680" cy="1711080"/>
          </a:xfrm>
        </p:grpSpPr>
        <p:sp>
          <p:nvSpPr>
            <p:cNvPr id="535" name=""/>
            <p:cNvSpPr/>
            <p:nvPr/>
          </p:nvSpPr>
          <p:spPr>
            <a:xfrm>
              <a:off x="533520" y="3200400"/>
              <a:ext cx="8248680" cy="16002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723960" y="3238560"/>
              <a:ext cx="3676680" cy="337320"/>
              <a:chOff x="723960" y="3238560"/>
              <a:chExt cx="3676680" cy="33732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776160" y="3238560"/>
                <a:ext cx="3624480" cy="337320"/>
                <a:chOff x="776160" y="3238560"/>
                <a:chExt cx="3624480" cy="33732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853920" y="3238560"/>
                  <a:ext cx="354672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de Ovied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76160" y="332676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0" name=""/>
              <p:cNvSpPr/>
              <p:nvPr/>
            </p:nvSpPr>
            <p:spPr>
              <a:xfrm>
                <a:off x="723960" y="3314880"/>
                <a:ext cx="152280" cy="1555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723960" y="3467160"/>
              <a:ext cx="3676680" cy="337320"/>
              <a:chOff x="723960" y="3467160"/>
              <a:chExt cx="3676680" cy="33732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776160" y="3467160"/>
                <a:ext cx="3624480" cy="337320"/>
                <a:chOff x="776160" y="3467160"/>
                <a:chExt cx="3624480" cy="3373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853920" y="3467160"/>
                  <a:ext cx="354672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Miguel Hernánde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76160" y="355536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5" name=""/>
              <p:cNvSpPr/>
              <p:nvPr/>
            </p:nvSpPr>
            <p:spPr>
              <a:xfrm>
                <a:off x="723960" y="3543480"/>
                <a:ext cx="152280" cy="1555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723960" y="3905280"/>
              <a:ext cx="3676680" cy="337320"/>
              <a:chOff x="723960" y="3905280"/>
              <a:chExt cx="3676680" cy="337320"/>
            </a:xfrm>
          </p:grpSpPr>
          <p:grpSp>
            <p:nvGrpSpPr>
              <p:cNvPr id="547" name=""/>
              <p:cNvGrpSpPr/>
              <p:nvPr/>
            </p:nvGrpSpPr>
            <p:grpSpPr>
              <a:xfrm>
                <a:off x="776160" y="3905280"/>
                <a:ext cx="3624480" cy="337320"/>
                <a:chOff x="776160" y="3905280"/>
                <a:chExt cx="3624480" cy="3373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853920" y="3905280"/>
                  <a:ext cx="354672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de Granad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76160" y="399348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0" name=""/>
              <p:cNvSpPr/>
              <p:nvPr/>
            </p:nvSpPr>
            <p:spPr>
              <a:xfrm>
                <a:off x="723960" y="3981600"/>
                <a:ext cx="152280" cy="1555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723960" y="4102200"/>
              <a:ext cx="3676680" cy="337320"/>
              <a:chOff x="723960" y="4102200"/>
              <a:chExt cx="3676680" cy="337320"/>
            </a:xfrm>
          </p:grpSpPr>
          <p:grpSp>
            <p:nvGrpSpPr>
              <p:cNvPr id="552" name=""/>
              <p:cNvGrpSpPr/>
              <p:nvPr/>
            </p:nvGrpSpPr>
            <p:grpSpPr>
              <a:xfrm>
                <a:off x="776160" y="4102200"/>
                <a:ext cx="3624480" cy="337320"/>
                <a:chOff x="776160" y="4102200"/>
                <a:chExt cx="3624480" cy="33732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853920" y="4102200"/>
                  <a:ext cx="354672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Jaume 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76160" y="419040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723960" y="4178520"/>
                <a:ext cx="152280" cy="1555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723960" y="4330800"/>
              <a:ext cx="3676680" cy="580680"/>
              <a:chOff x="723960" y="4330800"/>
              <a:chExt cx="3676680" cy="58068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776160" y="4330800"/>
                <a:ext cx="3624480" cy="580680"/>
                <a:chOff x="776160" y="4330800"/>
                <a:chExt cx="3624480" cy="5806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853920" y="4330800"/>
                  <a:ext cx="3546720" cy="5806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Politécnica de Cataluñ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76160" y="441900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723960" y="4407120"/>
                <a:ext cx="152280" cy="1555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723960" y="4540320"/>
              <a:ext cx="3676680" cy="337320"/>
              <a:chOff x="723960" y="4540320"/>
              <a:chExt cx="3676680" cy="33732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776160" y="4540320"/>
                <a:ext cx="3624480" cy="337320"/>
                <a:chOff x="776160" y="4540320"/>
                <a:chExt cx="3624480" cy="33732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853920" y="4540320"/>
                  <a:ext cx="354672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Politécnica de Valenc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76160" y="462852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>
                <a:off x="723960" y="4616640"/>
                <a:ext cx="152280" cy="1555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4705200" y="3238560"/>
              <a:ext cx="3676680" cy="337320"/>
              <a:chOff x="4705200" y="3238560"/>
              <a:chExt cx="3676680" cy="33732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4757400" y="3238560"/>
                <a:ext cx="3624480" cy="337320"/>
                <a:chOff x="4757400" y="3238560"/>
                <a:chExt cx="3624480" cy="33732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4835160" y="3238560"/>
                  <a:ext cx="354672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de Navarr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757400" y="332676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4705200" y="3314880"/>
                <a:ext cx="152280" cy="1555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4705200" y="3467160"/>
              <a:ext cx="3676680" cy="337320"/>
              <a:chOff x="4705200" y="3467160"/>
              <a:chExt cx="3676680" cy="337320"/>
            </a:xfrm>
          </p:grpSpPr>
          <p:grpSp>
            <p:nvGrpSpPr>
              <p:cNvPr id="572" name=""/>
              <p:cNvGrpSpPr/>
              <p:nvPr/>
            </p:nvGrpSpPr>
            <p:grpSpPr>
              <a:xfrm>
                <a:off x="4757400" y="3467160"/>
                <a:ext cx="3624480" cy="337320"/>
                <a:chOff x="4757400" y="3467160"/>
                <a:chExt cx="3624480" cy="3373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4835160" y="3467160"/>
                  <a:ext cx="354672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de Sevill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757400" y="355536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5" name=""/>
              <p:cNvSpPr/>
              <p:nvPr/>
            </p:nvSpPr>
            <p:spPr>
              <a:xfrm>
                <a:off x="4705200" y="3543480"/>
                <a:ext cx="152280" cy="1555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4705200" y="3676680"/>
              <a:ext cx="3676680" cy="337320"/>
              <a:chOff x="4705200" y="3676680"/>
              <a:chExt cx="3676680" cy="33732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4757400" y="3676680"/>
                <a:ext cx="3624480" cy="337320"/>
                <a:chOff x="4757400" y="3676680"/>
                <a:chExt cx="3624480" cy="3373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4835160" y="3676680"/>
                  <a:ext cx="354672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Alfonso X el Sabi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757400" y="376488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4705200" y="3753000"/>
                <a:ext cx="152280" cy="1555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4705200" y="3873600"/>
              <a:ext cx="3676680" cy="337320"/>
              <a:chOff x="4705200" y="3873600"/>
              <a:chExt cx="3676680" cy="33732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4757400" y="3873600"/>
                <a:ext cx="3624480" cy="337320"/>
                <a:chOff x="4757400" y="3873600"/>
                <a:chExt cx="3624480" cy="33732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4835160" y="3873600"/>
                  <a:ext cx="354672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Europea de Madri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757400" y="396180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4705200" y="3949920"/>
                <a:ext cx="152280" cy="1555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4705200" y="4102200"/>
              <a:ext cx="3676680" cy="337320"/>
              <a:chOff x="4705200" y="4102200"/>
              <a:chExt cx="3676680" cy="33732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4757400" y="4102200"/>
                <a:ext cx="3624480" cy="337320"/>
                <a:chOff x="4757400" y="4102200"/>
                <a:chExt cx="3624480" cy="33732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4835160" y="4102200"/>
                  <a:ext cx="354672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de Alica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757400" y="419040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4705200" y="4178520"/>
                <a:ext cx="152280" cy="1555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4705200" y="4311720"/>
              <a:ext cx="3676680" cy="580680"/>
              <a:chOff x="4705200" y="4311720"/>
              <a:chExt cx="3676680" cy="58068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4757400" y="4311720"/>
                <a:ext cx="3624480" cy="580680"/>
                <a:chOff x="4757400" y="4311720"/>
                <a:chExt cx="3624480" cy="5806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4835160" y="4311720"/>
                  <a:ext cx="3546720" cy="5806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Autónoma de Barcelon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757400" y="439992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4705200" y="4388040"/>
                <a:ext cx="152280" cy="1555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723960" y="3676680"/>
              <a:ext cx="3676680" cy="337320"/>
              <a:chOff x="723960" y="3676680"/>
              <a:chExt cx="3676680" cy="33732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776160" y="3676680"/>
                <a:ext cx="3624480" cy="337320"/>
                <a:chOff x="776160" y="3676680"/>
                <a:chExt cx="3624480" cy="3373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853920" y="3676680"/>
                  <a:ext cx="354672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de Cantab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776160" y="376488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723960" y="3753000"/>
                <a:ext cx="152280" cy="1555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705200" y="4521240"/>
              <a:ext cx="3676680" cy="337320"/>
              <a:chOff x="4705200" y="4521240"/>
              <a:chExt cx="3676680" cy="337320"/>
            </a:xfrm>
          </p:grpSpPr>
          <p:grpSp>
            <p:nvGrpSpPr>
              <p:cNvPr id="602" name=""/>
              <p:cNvGrpSpPr/>
              <p:nvPr/>
            </p:nvGrpSpPr>
            <p:grpSpPr>
              <a:xfrm>
                <a:off x="4757400" y="4521240"/>
                <a:ext cx="3624480" cy="337320"/>
                <a:chOff x="4757400" y="4521240"/>
                <a:chExt cx="3624480" cy="33732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4835160" y="4521240"/>
                  <a:ext cx="354672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de"/>
                      </a:solidFill>
                      <a:latin typeface="Futura Lt BT"/>
                    </a:rPr>
                    <a:t>Universidad del País Vas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757400" y="4609440"/>
                  <a:ext cx="68040" cy="129960"/>
                </a:xfrm>
                <a:prstGeom prst="flowChartConnector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>
                <a:off x="4705200" y="4597560"/>
                <a:ext cx="152280" cy="1555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990720" y="533520"/>
            <a:ext cx="7924680" cy="53316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082520" y="576360"/>
            <a:ext cx="75279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 LA ESCUELA DE INGENIEROS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608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33520" y="2971800"/>
            <a:ext cx="8305200" cy="1066680"/>
            <a:chOff x="533520" y="2971800"/>
            <a:chExt cx="8305200" cy="1066680"/>
          </a:xfrm>
        </p:grpSpPr>
        <p:sp>
          <p:nvSpPr>
            <p:cNvPr id="610" name=""/>
            <p:cNvSpPr/>
            <p:nvPr/>
          </p:nvSpPr>
          <p:spPr>
            <a:xfrm>
              <a:off x="533520" y="297180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719280" y="3006720"/>
              <a:ext cx="8119440" cy="642600"/>
              <a:chOff x="719280" y="3006720"/>
              <a:chExt cx="8119440" cy="642600"/>
            </a:xfrm>
          </p:grpSpPr>
          <p:sp>
            <p:nvSpPr>
              <p:cNvPr id="612" name=""/>
              <p:cNvSpPr/>
              <p:nvPr/>
            </p:nvSpPr>
            <p:spPr>
              <a:xfrm>
                <a:off x="895320" y="3006720"/>
                <a:ext cx="79434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Futura Md BT"/>
                  </a:rPr>
                  <a:t> </a:t>
                </a: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certificación ISO puede suponer una integración de los procesos de evaluación  ya realiza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19280" y="310140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"/>
          <p:cNvSpPr/>
          <p:nvPr/>
        </p:nvSpPr>
        <p:spPr>
          <a:xfrm>
            <a:off x="571680" y="1447920"/>
            <a:ext cx="8191440" cy="1015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JUST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lación con la evaluación institucional de la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533520" y="4648320"/>
            <a:ext cx="8305200" cy="1066680"/>
            <a:chOff x="533520" y="4648320"/>
            <a:chExt cx="8305200" cy="1066680"/>
          </a:xfrm>
        </p:grpSpPr>
        <p:sp>
          <p:nvSpPr>
            <p:cNvPr id="616" name=""/>
            <p:cNvSpPr/>
            <p:nvPr/>
          </p:nvSpPr>
          <p:spPr>
            <a:xfrm>
              <a:off x="533520" y="464832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719280" y="4683240"/>
              <a:ext cx="8119440" cy="642600"/>
              <a:chOff x="719280" y="4683240"/>
              <a:chExt cx="8119440" cy="642600"/>
            </a:xfrm>
          </p:grpSpPr>
          <p:sp>
            <p:nvSpPr>
              <p:cNvPr id="618" name=""/>
              <p:cNvSpPr/>
              <p:nvPr/>
            </p:nvSpPr>
            <p:spPr>
              <a:xfrm>
                <a:off x="895320" y="4683240"/>
                <a:ext cx="79434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Futura Md BT"/>
                  </a:rPr>
                  <a:t> </a:t>
                </a: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certificación ISO permitirá satisfacer los principales requerimientos en los procesos de acredit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19280" y="477792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500"/>
                            </p:stCondLst>
                            <p:childTnLst>
                              <p:par>
                                <p:cTn id="6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500"/>
                            </p:stCondLst>
                            <p:childTnLst>
                              <p:par>
                                <p:cTn id="6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000"/>
                            </p:stCondLst>
                            <p:childTnLst>
                              <p:par>
                                <p:cTn id="6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500"/>
                            </p:stCondLst>
                            <p:childTnLst>
                              <p:par>
                                <p:cTn id="6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990720" y="533520"/>
            <a:ext cx="7924680" cy="53316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082520" y="576360"/>
            <a:ext cx="75279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 LA ESCUELA DE INGENIEROS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622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533520" y="2590920"/>
            <a:ext cx="8305200" cy="1066680"/>
            <a:chOff x="533520" y="2590920"/>
            <a:chExt cx="8305200" cy="1066680"/>
          </a:xfrm>
        </p:grpSpPr>
        <p:sp>
          <p:nvSpPr>
            <p:cNvPr id="624" name=""/>
            <p:cNvSpPr/>
            <p:nvPr/>
          </p:nvSpPr>
          <p:spPr>
            <a:xfrm>
              <a:off x="533520" y="259092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719280" y="2625840"/>
              <a:ext cx="8119440" cy="642600"/>
              <a:chOff x="719280" y="2625840"/>
              <a:chExt cx="8119440" cy="642600"/>
            </a:xfrm>
          </p:grpSpPr>
          <p:sp>
            <p:nvSpPr>
              <p:cNvPr id="626" name=""/>
              <p:cNvSpPr/>
              <p:nvPr/>
            </p:nvSpPr>
            <p:spPr>
              <a:xfrm>
                <a:off x="895320" y="2625840"/>
                <a:ext cx="79434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a certificación ISO permitirá avanzar en la creación de un sistema de cal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19280" y="272052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571680" y="1447920"/>
            <a:ext cx="8191440" cy="1015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JUST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lación con la planificación estraté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533520" y="3886200"/>
            <a:ext cx="8305200" cy="1369080"/>
            <a:chOff x="533520" y="3886200"/>
            <a:chExt cx="8305200" cy="1369080"/>
          </a:xfrm>
        </p:grpSpPr>
        <p:sp>
          <p:nvSpPr>
            <p:cNvPr id="630" name=""/>
            <p:cNvSpPr/>
            <p:nvPr/>
          </p:nvSpPr>
          <p:spPr>
            <a:xfrm>
              <a:off x="533520" y="388620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719280" y="3921120"/>
              <a:ext cx="8119440" cy="1334160"/>
              <a:chOff x="719280" y="3921120"/>
              <a:chExt cx="8119440" cy="1334160"/>
            </a:xfrm>
          </p:grpSpPr>
          <p:sp>
            <p:nvSpPr>
              <p:cNvPr id="632" name=""/>
              <p:cNvSpPr/>
              <p:nvPr/>
            </p:nvSpPr>
            <p:spPr>
              <a:xfrm>
                <a:off x="895320" y="3921120"/>
                <a:ext cx="7943400" cy="13341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de"/>
                    </a:solidFill>
                    <a:latin typeface="Futura Md BT"/>
                  </a:rPr>
                  <a:t>La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Futura Md BT"/>
                  </a:rPr>
                  <a:t> </a:t>
                </a:r>
                <a:r>
                  <a:rPr b="1" lang="es-ES" sz="1800" spc="-1" strike="noStrike">
                    <a:solidFill>
                      <a:srgbClr val="0000de"/>
                    </a:solidFill>
                    <a:latin typeface="Futura Md BT"/>
                  </a:rPr>
                  <a:t>certificación ISO permitirá obtener experiencia para el proceso de acreditación al que deberán someterse los títulos de grado y posgrado que gestione la Escuel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19280" y="401580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4" name=""/>
          <p:cNvGrpSpPr/>
          <p:nvPr/>
        </p:nvGrpSpPr>
        <p:grpSpPr>
          <a:xfrm>
            <a:off x="533520" y="5181480"/>
            <a:ext cx="8305200" cy="1066680"/>
            <a:chOff x="533520" y="5181480"/>
            <a:chExt cx="8305200" cy="1066680"/>
          </a:xfrm>
        </p:grpSpPr>
        <p:sp>
          <p:nvSpPr>
            <p:cNvPr id="635" name=""/>
            <p:cNvSpPr/>
            <p:nvPr/>
          </p:nvSpPr>
          <p:spPr>
            <a:xfrm>
              <a:off x="533520" y="518148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719280" y="5216400"/>
              <a:ext cx="8119440" cy="916920"/>
              <a:chOff x="719280" y="5216400"/>
              <a:chExt cx="8119440" cy="916920"/>
            </a:xfrm>
          </p:grpSpPr>
          <p:sp>
            <p:nvSpPr>
              <p:cNvPr id="637" name=""/>
              <p:cNvSpPr/>
              <p:nvPr/>
            </p:nvSpPr>
            <p:spPr>
              <a:xfrm>
                <a:off x="895320" y="5216400"/>
                <a:ext cx="7943400" cy="9169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Futura Md BT"/>
                  </a:rPr>
                  <a:t> </a:t>
                </a: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certificación ISO permitirá sistematizar los procesos, establecer mecanismos de mejora continua e integrar a los distintos agentes implicados en un objetivo y procedimiento comú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19280" y="531108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500"/>
                            </p:stCondLst>
                            <p:childTnLst>
                              <p:par>
                                <p:cTn id="65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6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990720" y="533520"/>
            <a:ext cx="7924680" cy="53316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082520" y="576360"/>
            <a:ext cx="75279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 LA ESCUELA DE INGENIEROS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33520" y="2590920"/>
            <a:ext cx="8305200" cy="1066680"/>
            <a:chOff x="533520" y="2590920"/>
            <a:chExt cx="8305200" cy="1066680"/>
          </a:xfrm>
        </p:grpSpPr>
        <p:sp>
          <p:nvSpPr>
            <p:cNvPr id="643" name=""/>
            <p:cNvSpPr/>
            <p:nvPr/>
          </p:nvSpPr>
          <p:spPr>
            <a:xfrm>
              <a:off x="533520" y="259092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719280" y="2625840"/>
              <a:ext cx="8119440" cy="916920"/>
              <a:chOff x="719280" y="2625840"/>
              <a:chExt cx="8119440" cy="916920"/>
            </a:xfrm>
          </p:grpSpPr>
          <p:sp>
            <p:nvSpPr>
              <p:cNvPr id="645" name=""/>
              <p:cNvSpPr/>
              <p:nvPr/>
            </p:nvSpPr>
            <p:spPr>
              <a:xfrm>
                <a:off x="895320" y="2625840"/>
                <a:ext cx="7943400" cy="9169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a certificación ISO supondrá un eficaz mecanismo de comunicación con el entorno empresarial, con las familias y con los estudiant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9280" y="272052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7" name=""/>
          <p:cNvSpPr/>
          <p:nvPr/>
        </p:nvSpPr>
        <p:spPr>
          <a:xfrm>
            <a:off x="571680" y="1447920"/>
            <a:ext cx="8191440" cy="1015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JUST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lación con la planificación estraté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533520" y="3886200"/>
            <a:ext cx="8305200" cy="1094760"/>
            <a:chOff x="533520" y="3886200"/>
            <a:chExt cx="8305200" cy="1094760"/>
          </a:xfrm>
        </p:grpSpPr>
        <p:sp>
          <p:nvSpPr>
            <p:cNvPr id="649" name=""/>
            <p:cNvSpPr/>
            <p:nvPr/>
          </p:nvSpPr>
          <p:spPr>
            <a:xfrm>
              <a:off x="533520" y="388620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719280" y="3921120"/>
              <a:ext cx="8119440" cy="1059840"/>
              <a:chOff x="719280" y="3921120"/>
              <a:chExt cx="8119440" cy="1059840"/>
            </a:xfrm>
          </p:grpSpPr>
          <p:sp>
            <p:nvSpPr>
              <p:cNvPr id="651" name=""/>
              <p:cNvSpPr/>
              <p:nvPr/>
            </p:nvSpPr>
            <p:spPr>
              <a:xfrm>
                <a:off x="895320" y="3921120"/>
                <a:ext cx="7943400" cy="1059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a certificación ISO permitirá contar con un refrendo externo de la calidad de la gestión de la Escuel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9280" y="401580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3" name=""/>
          <p:cNvGrpSpPr/>
          <p:nvPr/>
        </p:nvGrpSpPr>
        <p:grpSpPr>
          <a:xfrm>
            <a:off x="533520" y="5181480"/>
            <a:ext cx="8305200" cy="1066680"/>
            <a:chOff x="533520" y="5181480"/>
            <a:chExt cx="8305200" cy="1066680"/>
          </a:xfrm>
        </p:grpSpPr>
        <p:sp>
          <p:nvSpPr>
            <p:cNvPr id="654" name=""/>
            <p:cNvSpPr/>
            <p:nvPr/>
          </p:nvSpPr>
          <p:spPr>
            <a:xfrm>
              <a:off x="533520" y="518148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719280" y="5216400"/>
              <a:ext cx="8119440" cy="916920"/>
              <a:chOff x="719280" y="5216400"/>
              <a:chExt cx="8119440" cy="916920"/>
            </a:xfrm>
          </p:grpSpPr>
          <p:sp>
            <p:nvSpPr>
              <p:cNvPr id="656" name=""/>
              <p:cNvSpPr/>
              <p:nvPr/>
            </p:nvSpPr>
            <p:spPr>
              <a:xfrm>
                <a:off x="895320" y="5216400"/>
                <a:ext cx="7943400" cy="9169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a certificación ISO facilitará la consecución de información para la toma de decisiones, establecerá indicadores y normalizará la document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9280" y="531108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500"/>
                            </p:stCondLst>
                            <p:childTnLst>
                              <p:par>
                                <p:cTn id="69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500"/>
                            </p:stCondLst>
                            <p:childTnLst>
                              <p:par>
                                <p:cTn id="70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990720" y="533520"/>
            <a:ext cx="7924680" cy="53316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082520" y="576360"/>
            <a:ext cx="75279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 LA ESCUELA DE INGENIEROS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660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1680" y="1447920"/>
            <a:ext cx="8191440" cy="138168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JUST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ferencia a indicadores y criterios de calidad de la AN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533520" y="3429000"/>
            <a:ext cx="8305200" cy="1599480"/>
            <a:chOff x="533520" y="3429000"/>
            <a:chExt cx="8305200" cy="1599480"/>
          </a:xfrm>
        </p:grpSpPr>
        <p:sp>
          <p:nvSpPr>
            <p:cNvPr id="663" name=""/>
            <p:cNvSpPr/>
            <p:nvPr/>
          </p:nvSpPr>
          <p:spPr>
            <a:xfrm>
              <a:off x="533520" y="342900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719280" y="3463920"/>
              <a:ext cx="8119440" cy="1564560"/>
              <a:chOff x="719280" y="3463920"/>
              <a:chExt cx="8119440" cy="1564560"/>
            </a:xfrm>
          </p:grpSpPr>
          <p:sp>
            <p:nvSpPr>
              <p:cNvPr id="665" name=""/>
              <p:cNvSpPr/>
              <p:nvPr/>
            </p:nvSpPr>
            <p:spPr>
              <a:xfrm>
                <a:off x="895320" y="3463920"/>
                <a:ext cx="7943400" cy="1564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a certificación ISO incluye todos los criterios definidos, particularmente el décimo, referido a la necesidad de Sistemas de Garantía de la Calidad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19280" y="355860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"/>
          <p:cNvGrpSpPr/>
          <p:nvPr/>
        </p:nvGrpSpPr>
        <p:grpSpPr>
          <a:xfrm>
            <a:off x="533520" y="5029200"/>
            <a:ext cx="8305200" cy="1066680"/>
            <a:chOff x="533520" y="5029200"/>
            <a:chExt cx="8305200" cy="1066680"/>
          </a:xfrm>
        </p:grpSpPr>
        <p:sp>
          <p:nvSpPr>
            <p:cNvPr id="668" name=""/>
            <p:cNvSpPr/>
            <p:nvPr/>
          </p:nvSpPr>
          <p:spPr>
            <a:xfrm>
              <a:off x="533520" y="502920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719280" y="5064120"/>
              <a:ext cx="8119440" cy="916920"/>
              <a:chOff x="719280" y="5064120"/>
              <a:chExt cx="8119440" cy="916920"/>
            </a:xfrm>
          </p:grpSpPr>
          <p:sp>
            <p:nvSpPr>
              <p:cNvPr id="670" name=""/>
              <p:cNvSpPr/>
              <p:nvPr/>
            </p:nvSpPr>
            <p:spPr>
              <a:xfrm>
                <a:off x="895320" y="5064120"/>
                <a:ext cx="7943400" cy="9169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A falta de indicadores definitivos de la ANECA, la certificación permitirá crear procedimientos y evidencias que serán usados en las futuras acreditaciones y homologa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19280" y="515880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500"/>
                            </p:stCondLst>
                            <p:childTnLst>
                              <p:par>
                                <p:cTn id="7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219320" y="587520"/>
            <a:ext cx="7924680" cy="533160"/>
            <a:chOff x="1219320" y="587520"/>
            <a:chExt cx="7924680" cy="533160"/>
          </a:xfrm>
        </p:grpSpPr>
        <p:sp>
          <p:nvSpPr>
            <p:cNvPr id="71" name=""/>
            <p:cNvSpPr/>
            <p:nvPr/>
          </p:nvSpPr>
          <p:spPr>
            <a:xfrm>
              <a:off x="1219320" y="587520"/>
              <a:ext cx="7924680" cy="53316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1311120" y="592200"/>
              <a:ext cx="5318280" cy="457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8f8f8"/>
                  </a:solidFill>
                  <a:latin typeface="Futura Md BT"/>
                </a:rPr>
                <a:t>CALIDAD: ¿POR QUÉ?</a:t>
              </a:r>
              <a:endPara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  <a:ea typeface="Futura Md BT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324480" y="6172200"/>
            <a:ext cx="2819520" cy="22860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7460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124080" y="1447920"/>
            <a:ext cx="30481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de"/>
                </a:solidFill>
                <a:latin typeface="Futura Md BT"/>
              </a:rPr>
              <a:t>POR EFICACIA</a:t>
            </a:r>
            <a:endParaRPr b="1" lang="en-US" sz="2800" spc="1" strike="noStrike">
              <a:ln w="0">
                <a:noFill/>
              </a:ln>
              <a:solidFill>
                <a:srgbClr val="0000de"/>
              </a:solidFill>
              <a:latin typeface="Futura Md BT"/>
              <a:ea typeface="Futura Md BT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8120" y="5257800"/>
            <a:ext cx="8248680" cy="762120"/>
            <a:chOff x="438120" y="5257800"/>
            <a:chExt cx="8248680" cy="762120"/>
          </a:xfrm>
        </p:grpSpPr>
        <p:sp>
          <p:nvSpPr>
            <p:cNvPr id="78" name=""/>
            <p:cNvSpPr/>
            <p:nvPr/>
          </p:nvSpPr>
          <p:spPr>
            <a:xfrm>
              <a:off x="438120" y="5257800"/>
              <a:ext cx="8248680" cy="76212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" y="5257800"/>
              <a:ext cx="77724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de"/>
                  </a:solidFill>
                  <a:latin typeface="Futura Md BT"/>
                </a:rPr>
                <a:t>“</a:t>
              </a:r>
              <a:r>
                <a:rPr b="1" i="1" lang="es-ES_tradnl" sz="2400" spc="-1" strike="noStrike">
                  <a:solidFill>
                    <a:srgbClr val="0000de"/>
                  </a:solidFill>
                  <a:latin typeface="Futura Md BT"/>
                </a:rPr>
                <a:t>Hacer lo correcto de la manera correcta”</a:t>
              </a:r>
              <a:r>
                <a:rPr b="0" lang="es-ES_tradnl" sz="2000" spc="-1" strike="noStrike">
                  <a:solidFill>
                    <a:srgbClr val="0000de"/>
                  </a:solidFill>
                  <a:latin typeface="Futura Md BT"/>
                </a:rPr>
                <a:t>  </a:t>
              </a:r>
              <a:r>
                <a:rPr b="0" lang="es-ES_tradnl" sz="1800" spc="-1" strike="noStrike">
                  <a:solidFill>
                    <a:srgbClr val="0000de"/>
                  </a:solidFill>
                  <a:latin typeface="Futura Md BT"/>
                </a:rPr>
                <a:t>(W.E.Dem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 txBox="1"/>
          <p:nvPr/>
        </p:nvSpPr>
        <p:spPr>
          <a:xfrm>
            <a:off x="3200400" y="3048120"/>
            <a:ext cx="30481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de"/>
                </a:solidFill>
                <a:latin typeface="Futura Md BT"/>
              </a:rPr>
              <a:t>POR EFICIENCIA</a:t>
            </a:r>
            <a:endParaRPr b="1" lang="en-US" sz="2800" spc="1" strike="noStrike">
              <a:ln w="0">
                <a:noFill/>
              </a:ln>
              <a:solidFill>
                <a:srgbClr val="0000de"/>
              </a:solidFill>
              <a:latin typeface="Futura Md BT"/>
              <a:ea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990720" y="533520"/>
            <a:ext cx="7924680" cy="53316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082520" y="576360"/>
            <a:ext cx="75279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 LA ESCUELA DE INGENIEROS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674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3520" y="1447920"/>
            <a:ext cx="8191440" cy="1015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JUST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plicabilidad a otr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33520" y="3429000"/>
            <a:ext cx="8305200" cy="1094760"/>
            <a:chOff x="533520" y="3429000"/>
            <a:chExt cx="8305200" cy="1094760"/>
          </a:xfrm>
        </p:grpSpPr>
        <p:sp>
          <p:nvSpPr>
            <p:cNvPr id="677" name=""/>
            <p:cNvSpPr/>
            <p:nvPr/>
          </p:nvSpPr>
          <p:spPr>
            <a:xfrm>
              <a:off x="533520" y="342900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719280" y="3463920"/>
              <a:ext cx="8119440" cy="1059840"/>
              <a:chOff x="719280" y="3463920"/>
              <a:chExt cx="8119440" cy="1059840"/>
            </a:xfrm>
          </p:grpSpPr>
          <p:sp>
            <p:nvSpPr>
              <p:cNvPr id="679" name=""/>
              <p:cNvSpPr/>
              <p:nvPr/>
            </p:nvSpPr>
            <p:spPr>
              <a:xfrm>
                <a:off x="895320" y="3463920"/>
                <a:ext cx="7943400" cy="1059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El modelo de certificación ISO es aplicable a todas las unidades de la Universidad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19280" y="3558600"/>
                <a:ext cx="152280" cy="1393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1" name=""/>
          <p:cNvGrpSpPr/>
          <p:nvPr/>
        </p:nvGrpSpPr>
        <p:grpSpPr>
          <a:xfrm>
            <a:off x="533520" y="5029200"/>
            <a:ext cx="8305200" cy="1066680"/>
            <a:chOff x="533520" y="5029200"/>
            <a:chExt cx="8305200" cy="1066680"/>
          </a:xfrm>
        </p:grpSpPr>
        <p:sp>
          <p:nvSpPr>
            <p:cNvPr id="682" name=""/>
            <p:cNvSpPr/>
            <p:nvPr/>
          </p:nvSpPr>
          <p:spPr>
            <a:xfrm>
              <a:off x="533520" y="502920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719280" y="5064120"/>
              <a:ext cx="8119440" cy="642600"/>
              <a:chOff x="719280" y="5064120"/>
              <a:chExt cx="8119440" cy="642600"/>
            </a:xfrm>
          </p:grpSpPr>
          <p:sp>
            <p:nvSpPr>
              <p:cNvPr id="684" name=""/>
              <p:cNvSpPr/>
              <p:nvPr/>
            </p:nvSpPr>
            <p:spPr>
              <a:xfrm>
                <a:off x="895320" y="5064120"/>
                <a:ext cx="79434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El modelo de certificación ISO es aplicable a todas las asignaturas de las cuatro titulaciones gestionadas por la Escuel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19280" y="515880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500"/>
                            </p:stCondLst>
                            <p:childTnLst>
                              <p:par>
                                <p:cTn id="7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000"/>
                            </p:stCondLst>
                            <p:childTnLst>
                              <p:par>
                                <p:cTn id="76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500"/>
                            </p:stCondLst>
                            <p:childTnLst>
                              <p:par>
                                <p:cTn id="78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533520"/>
            <a:ext cx="7924680" cy="53316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082520" y="576360"/>
            <a:ext cx="75279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 LA ESCUELA DE INGENIEROS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688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3520" y="1447920"/>
            <a:ext cx="8191440" cy="1015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JUST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levancia del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33520" y="2666880"/>
            <a:ext cx="8305200" cy="1066680"/>
            <a:chOff x="533520" y="2666880"/>
            <a:chExt cx="8305200" cy="1066680"/>
          </a:xfrm>
        </p:grpSpPr>
        <p:sp>
          <p:nvSpPr>
            <p:cNvPr id="691" name=""/>
            <p:cNvSpPr/>
            <p:nvPr/>
          </p:nvSpPr>
          <p:spPr>
            <a:xfrm>
              <a:off x="533520" y="266688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719280" y="2701800"/>
              <a:ext cx="8119440" cy="642600"/>
              <a:chOff x="719280" y="2701800"/>
              <a:chExt cx="8119440" cy="642600"/>
            </a:xfrm>
          </p:grpSpPr>
          <p:sp>
            <p:nvSpPr>
              <p:cNvPr id="693" name=""/>
              <p:cNvSpPr/>
              <p:nvPr/>
            </p:nvSpPr>
            <p:spPr>
              <a:xfrm>
                <a:off x="895320" y="2701800"/>
                <a:ext cx="79434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Futura Md BT"/>
                  </a:rPr>
                  <a:t>La certificación permitirá crear procedimientos de gestión o dotar de indicadores y evidencias a los ya disponibl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19280" y="279648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5" name=""/>
          <p:cNvGrpSpPr/>
          <p:nvPr/>
        </p:nvGrpSpPr>
        <p:grpSpPr>
          <a:xfrm>
            <a:off x="533520" y="4191120"/>
            <a:ext cx="8305200" cy="685800"/>
            <a:chOff x="533520" y="4191120"/>
            <a:chExt cx="8305200" cy="685800"/>
          </a:xfrm>
        </p:grpSpPr>
        <p:sp>
          <p:nvSpPr>
            <p:cNvPr id="696" name=""/>
            <p:cNvSpPr/>
            <p:nvPr/>
          </p:nvSpPr>
          <p:spPr>
            <a:xfrm>
              <a:off x="533520" y="4191120"/>
              <a:ext cx="8248680" cy="68580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719280" y="4213440"/>
              <a:ext cx="8119440" cy="642600"/>
              <a:chOff x="719280" y="4213440"/>
              <a:chExt cx="8119440" cy="642600"/>
            </a:xfrm>
          </p:grpSpPr>
          <p:sp>
            <p:nvSpPr>
              <p:cNvPr id="698" name=""/>
              <p:cNvSpPr/>
              <p:nvPr/>
            </p:nvSpPr>
            <p:spPr>
              <a:xfrm>
                <a:off x="895320" y="4213440"/>
                <a:ext cx="79434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Futura Md BT"/>
                  </a:rPr>
                  <a:t>La certificación creará un sistema de atención de la no conformidad.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19280" y="4274280"/>
                <a:ext cx="152280" cy="8964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"/>
          <p:cNvGrpSpPr/>
          <p:nvPr/>
        </p:nvGrpSpPr>
        <p:grpSpPr>
          <a:xfrm>
            <a:off x="533520" y="5257800"/>
            <a:ext cx="8305200" cy="1066680"/>
            <a:chOff x="533520" y="5257800"/>
            <a:chExt cx="8305200" cy="1066680"/>
          </a:xfrm>
        </p:grpSpPr>
        <p:sp>
          <p:nvSpPr>
            <p:cNvPr id="701" name=""/>
            <p:cNvSpPr/>
            <p:nvPr/>
          </p:nvSpPr>
          <p:spPr>
            <a:xfrm>
              <a:off x="533520" y="525780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719280" y="5292720"/>
              <a:ext cx="8119440" cy="734040"/>
              <a:chOff x="719280" y="5292720"/>
              <a:chExt cx="8119440" cy="734040"/>
            </a:xfrm>
          </p:grpSpPr>
          <p:sp>
            <p:nvSpPr>
              <p:cNvPr id="703" name=""/>
              <p:cNvSpPr/>
              <p:nvPr/>
            </p:nvSpPr>
            <p:spPr>
              <a:xfrm>
                <a:off x="895320" y="5292720"/>
                <a:ext cx="7943400" cy="73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Futura Md BT"/>
                  </a:rPr>
                  <a:t>La certificación integrará el trabajo cotidiano de distintas unidades y servicios.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19280" y="5387040"/>
                <a:ext cx="152280" cy="1393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500"/>
                            </p:stCondLst>
                            <p:childTnLst>
                              <p:par>
                                <p:cTn id="8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90720" y="533520"/>
            <a:ext cx="7924680" cy="53316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082520" y="576360"/>
            <a:ext cx="75279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 LA ESCUELA DE INGENIEROS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707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3520" y="1447920"/>
            <a:ext cx="8191440" cy="1015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TAREAS A REA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CURSO 2005-200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609480" y="2590920"/>
            <a:ext cx="8305200" cy="5524920"/>
            <a:chOff x="609480" y="2590920"/>
            <a:chExt cx="8305200" cy="5524920"/>
          </a:xfrm>
        </p:grpSpPr>
        <p:sp>
          <p:nvSpPr>
            <p:cNvPr id="710" name=""/>
            <p:cNvSpPr/>
            <p:nvPr/>
          </p:nvSpPr>
          <p:spPr>
            <a:xfrm>
              <a:off x="609480" y="2590920"/>
              <a:ext cx="8248680" cy="389340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795240" y="2718360"/>
              <a:ext cx="8119440" cy="5397480"/>
              <a:chOff x="795240" y="2718360"/>
              <a:chExt cx="8119440" cy="5397480"/>
            </a:xfrm>
          </p:grpSpPr>
          <p:sp>
            <p:nvSpPr>
              <p:cNvPr id="712" name=""/>
              <p:cNvSpPr/>
              <p:nvPr/>
            </p:nvSpPr>
            <p:spPr>
              <a:xfrm>
                <a:off x="971280" y="2718360"/>
                <a:ext cx="7943400" cy="5397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T.1.1.: 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Realización de actividades de benchmarking en otras Escuelas ya certificadas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T.1.2.: 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Delimitación de todos los agentes y unidades implicados en el proceso de certificación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T.1.3.: 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Consecución del consenso de todos los agentes y unidades implicados en el proceso para su participación efectiva en el mismo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T.1.4.: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 Petición de presupuestos de consultoría externa para el apoyo y desarrollo del proceso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T.1.5.: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 Realización de actividades divulgativas y formativas previas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95240" y="3063600"/>
                <a:ext cx="152280" cy="50904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8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500"/>
                            </p:stCondLst>
                            <p:childTnLst>
                              <p:par>
                                <p:cTn id="84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3000"/>
                            </p:stCondLst>
                            <p:childTnLst>
                              <p:par>
                                <p:cTn id="85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500"/>
                            </p:stCondLst>
                            <p:childTnLst>
                              <p:par>
                                <p:cTn id="85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990720" y="533520"/>
            <a:ext cx="7924680" cy="53316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1082520" y="576360"/>
            <a:ext cx="75279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 LA ESCUELA DE INGENIEROS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716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33520" y="1447920"/>
            <a:ext cx="8191440" cy="1015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TAREAS A REA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CURSO 2006-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09480" y="2590920"/>
            <a:ext cx="8305200" cy="4975920"/>
            <a:chOff x="609480" y="2590920"/>
            <a:chExt cx="8305200" cy="4975920"/>
          </a:xfrm>
        </p:grpSpPr>
        <p:sp>
          <p:nvSpPr>
            <p:cNvPr id="719" name=""/>
            <p:cNvSpPr/>
            <p:nvPr/>
          </p:nvSpPr>
          <p:spPr>
            <a:xfrm>
              <a:off x="609480" y="2590920"/>
              <a:ext cx="8248680" cy="272556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795240" y="2679840"/>
              <a:ext cx="8119440" cy="4887000"/>
              <a:chOff x="795240" y="2679840"/>
              <a:chExt cx="8119440" cy="4887000"/>
            </a:xfrm>
          </p:grpSpPr>
          <p:sp>
            <p:nvSpPr>
              <p:cNvPr id="721" name=""/>
              <p:cNvSpPr/>
              <p:nvPr/>
            </p:nvSpPr>
            <p:spPr>
              <a:xfrm>
                <a:off x="971280" y="2679840"/>
                <a:ext cx="7943400" cy="48870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T.1.6.B.: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 Documentación del sistema: Establecimiento de un listado de los principales procesos y procedimientos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T.1.6.C.: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 Documentación del sistema: Priorización de los procesos y procedimientos a diseñar y desarrollar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T.1.7.: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 Organización del sistema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95240" y="2921760"/>
                <a:ext cx="152280" cy="35640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990720" y="533520"/>
            <a:ext cx="7924680" cy="53316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082520" y="576360"/>
            <a:ext cx="75279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 LA ESCUELA DE INGENIEROS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725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447920"/>
            <a:ext cx="8191440" cy="1015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TAREAS A REA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CURSO 2007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2590920"/>
            <a:ext cx="8305200" cy="4884480"/>
            <a:chOff x="609480" y="2590920"/>
            <a:chExt cx="8305200" cy="4884480"/>
          </a:xfrm>
        </p:grpSpPr>
        <p:sp>
          <p:nvSpPr>
            <p:cNvPr id="728" name=""/>
            <p:cNvSpPr/>
            <p:nvPr/>
          </p:nvSpPr>
          <p:spPr>
            <a:xfrm>
              <a:off x="609480" y="2590920"/>
              <a:ext cx="8248680" cy="272520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795240" y="2679840"/>
              <a:ext cx="8119440" cy="4795560"/>
              <a:chOff x="795240" y="2679840"/>
              <a:chExt cx="8119440" cy="4795560"/>
            </a:xfrm>
          </p:grpSpPr>
          <p:sp>
            <p:nvSpPr>
              <p:cNvPr id="730" name=""/>
              <p:cNvSpPr/>
              <p:nvPr/>
            </p:nvSpPr>
            <p:spPr>
              <a:xfrm>
                <a:off x="971280" y="2679840"/>
                <a:ext cx="7943400" cy="4795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T.1.8.: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 Elaboración del Manual de Cal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T.1.9.: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 Establecimiento de los procedimientos generales del siste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T.1.10.: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 Establecimiento de procedimientos operativ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T.1.11.: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 Medición y anális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T.1.12.: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 CERTIFICACIÓN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95240" y="2921760"/>
                <a:ext cx="152280" cy="35640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2500"/>
                            </p:stCondLst>
                            <p:childTnLst>
                              <p:par>
                                <p:cTn id="9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3000"/>
                            </p:stCondLst>
                            <p:childTnLst>
                              <p:par>
                                <p:cTn id="9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500"/>
                            </p:stCondLst>
                            <p:childTnLst>
                              <p:par>
                                <p:cTn id="9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990720" y="533520"/>
            <a:ext cx="7924680" cy="53316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1082520" y="576360"/>
            <a:ext cx="75279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L DPTO DE ECONOMIA Y EMPRESA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735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533520" y="2971800"/>
            <a:ext cx="8305200" cy="1066680"/>
            <a:chOff x="533520" y="2971800"/>
            <a:chExt cx="8305200" cy="1066680"/>
          </a:xfrm>
        </p:grpSpPr>
        <p:sp>
          <p:nvSpPr>
            <p:cNvPr id="737" name=""/>
            <p:cNvSpPr/>
            <p:nvPr/>
          </p:nvSpPr>
          <p:spPr>
            <a:xfrm>
              <a:off x="533520" y="297180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719280" y="3006720"/>
              <a:ext cx="8119440" cy="642600"/>
              <a:chOff x="719280" y="3006720"/>
              <a:chExt cx="8119440" cy="642600"/>
            </a:xfrm>
          </p:grpSpPr>
          <p:sp>
            <p:nvSpPr>
              <p:cNvPr id="739" name=""/>
              <p:cNvSpPr/>
              <p:nvPr/>
            </p:nvSpPr>
            <p:spPr>
              <a:xfrm>
                <a:off x="895320" y="3006720"/>
                <a:ext cx="79434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Futura Md BT"/>
                  </a:rPr>
                  <a:t> </a:t>
                </a: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certificación ISO puede suponer una integración de los procesos de gestión y procedimiento del Departame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19280" y="3101040"/>
                <a:ext cx="152280" cy="1393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1" name=""/>
          <p:cNvSpPr/>
          <p:nvPr/>
        </p:nvSpPr>
        <p:spPr>
          <a:xfrm>
            <a:off x="571680" y="1447920"/>
            <a:ext cx="8191440" cy="1015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JUST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lación con la evaluación institucional de la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33520" y="4648320"/>
            <a:ext cx="8305200" cy="1066680"/>
            <a:chOff x="533520" y="4648320"/>
            <a:chExt cx="8305200" cy="1066680"/>
          </a:xfrm>
        </p:grpSpPr>
        <p:sp>
          <p:nvSpPr>
            <p:cNvPr id="743" name=""/>
            <p:cNvSpPr/>
            <p:nvPr/>
          </p:nvSpPr>
          <p:spPr>
            <a:xfrm>
              <a:off x="533520" y="464832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719280" y="4683240"/>
              <a:ext cx="8119440" cy="916920"/>
              <a:chOff x="719280" y="4683240"/>
              <a:chExt cx="8119440" cy="916920"/>
            </a:xfrm>
          </p:grpSpPr>
          <p:sp>
            <p:nvSpPr>
              <p:cNvPr id="745" name=""/>
              <p:cNvSpPr/>
              <p:nvPr/>
            </p:nvSpPr>
            <p:spPr>
              <a:xfrm>
                <a:off x="895320" y="4683240"/>
                <a:ext cx="7943400" cy="9169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Futura Md BT"/>
                  </a:rPr>
                  <a:t> </a:t>
                </a: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certificación ISO permitirá satisfacer los principales requerimientos y novedades en la gestión de los servicios universitari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19280" y="477792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500"/>
                            </p:stCondLst>
                            <p:childTnLst>
                              <p:par>
                                <p:cTn id="9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000"/>
                            </p:stCondLst>
                            <p:childTnLst>
                              <p:par>
                                <p:cTn id="96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3500"/>
                            </p:stCondLst>
                            <p:childTnLst>
                              <p:par>
                                <p:cTn id="97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990720" y="533520"/>
            <a:ext cx="7924680" cy="53316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082520" y="576360"/>
            <a:ext cx="7527960" cy="338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L DPTO. DE ECONOMIA Y EMPRESA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749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533520" y="2590920"/>
            <a:ext cx="8305200" cy="838080"/>
            <a:chOff x="533520" y="2590920"/>
            <a:chExt cx="8305200" cy="838080"/>
          </a:xfrm>
        </p:grpSpPr>
        <p:sp>
          <p:nvSpPr>
            <p:cNvPr id="751" name=""/>
            <p:cNvSpPr/>
            <p:nvPr/>
          </p:nvSpPr>
          <p:spPr>
            <a:xfrm>
              <a:off x="533520" y="2590920"/>
              <a:ext cx="8248680" cy="8380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719280" y="2618280"/>
              <a:ext cx="8119440" cy="642600"/>
              <a:chOff x="719280" y="2618280"/>
              <a:chExt cx="8119440" cy="642600"/>
            </a:xfrm>
          </p:grpSpPr>
          <p:sp>
            <p:nvSpPr>
              <p:cNvPr id="753" name=""/>
              <p:cNvSpPr/>
              <p:nvPr/>
            </p:nvSpPr>
            <p:spPr>
              <a:xfrm>
                <a:off x="895320" y="2618280"/>
                <a:ext cx="79434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a certificación ISO es una de las acciones aprobadas en el Plan estratégico del Departamento de Economía y Empres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19280" y="2692800"/>
                <a:ext cx="152280" cy="10980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5" name=""/>
          <p:cNvSpPr/>
          <p:nvPr/>
        </p:nvSpPr>
        <p:spPr>
          <a:xfrm>
            <a:off x="571680" y="1447920"/>
            <a:ext cx="8191440" cy="1015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JUST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lación con la planificación estraté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533520" y="3886200"/>
            <a:ext cx="8305200" cy="1066680"/>
            <a:chOff x="533520" y="3886200"/>
            <a:chExt cx="8305200" cy="1066680"/>
          </a:xfrm>
        </p:grpSpPr>
        <p:sp>
          <p:nvSpPr>
            <p:cNvPr id="757" name=""/>
            <p:cNvSpPr/>
            <p:nvPr/>
          </p:nvSpPr>
          <p:spPr>
            <a:xfrm>
              <a:off x="533520" y="388620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719280" y="3921120"/>
              <a:ext cx="8119440" cy="642600"/>
              <a:chOff x="719280" y="3921120"/>
              <a:chExt cx="8119440" cy="642600"/>
            </a:xfrm>
          </p:grpSpPr>
          <p:sp>
            <p:nvSpPr>
              <p:cNvPr id="759" name=""/>
              <p:cNvSpPr/>
              <p:nvPr/>
            </p:nvSpPr>
            <p:spPr>
              <a:xfrm>
                <a:off x="895320" y="3921120"/>
                <a:ext cx="79434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Futura Md BT"/>
                  </a:rPr>
                  <a:t> </a:t>
                </a: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certificación ISO permitirá obtener experiencias que promuevan los cambios hacia una nueva cultura de compromiso y cal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19280" y="4015440"/>
                <a:ext cx="152280" cy="1393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1" name=""/>
          <p:cNvGrpSpPr/>
          <p:nvPr/>
        </p:nvGrpSpPr>
        <p:grpSpPr>
          <a:xfrm>
            <a:off x="533520" y="5181480"/>
            <a:ext cx="8305200" cy="1066680"/>
            <a:chOff x="533520" y="5181480"/>
            <a:chExt cx="8305200" cy="1066680"/>
          </a:xfrm>
        </p:grpSpPr>
        <p:sp>
          <p:nvSpPr>
            <p:cNvPr id="762" name=""/>
            <p:cNvSpPr/>
            <p:nvPr/>
          </p:nvSpPr>
          <p:spPr>
            <a:xfrm>
              <a:off x="533520" y="518148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719280" y="5216400"/>
              <a:ext cx="8119440" cy="916920"/>
              <a:chOff x="719280" y="5216400"/>
              <a:chExt cx="8119440" cy="916920"/>
            </a:xfrm>
          </p:grpSpPr>
          <p:sp>
            <p:nvSpPr>
              <p:cNvPr id="764" name=""/>
              <p:cNvSpPr/>
              <p:nvPr/>
            </p:nvSpPr>
            <p:spPr>
              <a:xfrm>
                <a:off x="895320" y="5216400"/>
                <a:ext cx="7943400" cy="9169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Futura Md BT"/>
                  </a:rPr>
                  <a:t> </a:t>
                </a: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certificación ISO permitirá sistematizar los procesos, establecer mecanismos de mejora continua e integrar a los distintos agentes implicados en un objetivo y procedimiento comú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9280" y="531108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9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990720" y="533520"/>
            <a:ext cx="7924680" cy="68580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082520" y="576360"/>
            <a:ext cx="7527960" cy="490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L DPTO. DE ECONOMIA Y EMPRESA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768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1680" y="1447920"/>
            <a:ext cx="8191440" cy="138168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JUST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ferencia a indicadores y criterios de calidad de la AN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3520" y="3429000"/>
            <a:ext cx="8305200" cy="1369080"/>
            <a:chOff x="533520" y="3429000"/>
            <a:chExt cx="8305200" cy="1369080"/>
          </a:xfrm>
        </p:grpSpPr>
        <p:sp>
          <p:nvSpPr>
            <p:cNvPr id="771" name=""/>
            <p:cNvSpPr/>
            <p:nvPr/>
          </p:nvSpPr>
          <p:spPr>
            <a:xfrm>
              <a:off x="533520" y="342900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719280" y="3463920"/>
              <a:ext cx="8119440" cy="1334160"/>
              <a:chOff x="719280" y="3463920"/>
              <a:chExt cx="8119440" cy="1334160"/>
            </a:xfrm>
          </p:grpSpPr>
          <p:sp>
            <p:nvSpPr>
              <p:cNvPr id="773" name=""/>
              <p:cNvSpPr/>
              <p:nvPr/>
            </p:nvSpPr>
            <p:spPr>
              <a:xfrm>
                <a:off x="895320" y="3463920"/>
                <a:ext cx="7943400" cy="13341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a certificación ISO incluye todos los criterios definidos, particularmente el décimo, referido a la necesidad de Sistemas de Garantía de la Calidad (p. 21 del documento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19280" y="355860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990720" y="533520"/>
            <a:ext cx="7924680" cy="68580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082520" y="576360"/>
            <a:ext cx="75279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L DPTO. DE ECONOMIA Y EMPRESA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777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33520" y="1447920"/>
            <a:ext cx="8191440" cy="1015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JUST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plicabilidad a otr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533520" y="3429000"/>
            <a:ext cx="8305200" cy="1369080"/>
            <a:chOff x="533520" y="3429000"/>
            <a:chExt cx="8305200" cy="1369080"/>
          </a:xfrm>
        </p:grpSpPr>
        <p:sp>
          <p:nvSpPr>
            <p:cNvPr id="780" name=""/>
            <p:cNvSpPr/>
            <p:nvPr/>
          </p:nvSpPr>
          <p:spPr>
            <a:xfrm>
              <a:off x="533520" y="342900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719280" y="3463920"/>
              <a:ext cx="8119440" cy="1334160"/>
              <a:chOff x="719280" y="3463920"/>
              <a:chExt cx="8119440" cy="1334160"/>
            </a:xfrm>
          </p:grpSpPr>
          <p:sp>
            <p:nvSpPr>
              <p:cNvPr id="782" name=""/>
              <p:cNvSpPr/>
              <p:nvPr/>
            </p:nvSpPr>
            <p:spPr>
              <a:xfrm>
                <a:off x="895320" y="3463920"/>
                <a:ext cx="7943400" cy="13341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El modelo de certificación ISO es aplicable a la gestión administrativa, a la docencia y a las labores de investigación de los distintos grupos de investigación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19280" y="3558600"/>
                <a:ext cx="152280" cy="1393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0"/>
                      </p:stCondLst>
                      <p:childTnLst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990720" y="533520"/>
            <a:ext cx="7924680" cy="68580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082520" y="576360"/>
            <a:ext cx="75279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L DPTO. DE ECONOMIA Y EMPRESA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786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33520" y="1447920"/>
            <a:ext cx="8191440" cy="1015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TAREAS A REA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CURSO 2005-200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09480" y="2590920"/>
            <a:ext cx="8305200" cy="5524920"/>
            <a:chOff x="609480" y="2590920"/>
            <a:chExt cx="8305200" cy="5524920"/>
          </a:xfrm>
        </p:grpSpPr>
        <p:sp>
          <p:nvSpPr>
            <p:cNvPr id="789" name=""/>
            <p:cNvSpPr/>
            <p:nvPr/>
          </p:nvSpPr>
          <p:spPr>
            <a:xfrm>
              <a:off x="609480" y="2590920"/>
              <a:ext cx="8248680" cy="389340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795240" y="2718360"/>
              <a:ext cx="8119440" cy="5397480"/>
              <a:chOff x="795240" y="2718360"/>
              <a:chExt cx="8119440" cy="5397480"/>
            </a:xfrm>
          </p:grpSpPr>
          <p:sp>
            <p:nvSpPr>
              <p:cNvPr id="791" name=""/>
              <p:cNvSpPr/>
              <p:nvPr/>
            </p:nvSpPr>
            <p:spPr>
              <a:xfrm>
                <a:off x="971280" y="2718360"/>
                <a:ext cx="7943400" cy="5397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T.1.1.: 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Realización de actividades de benchmarking en otros departamentos y unidades avanzadas en el proceso de calidad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T.1.2: Actividades formativas y delimitación de todos los agentes y unidades implicados en el proceso de certificación. Desagregación de las tareas y procesos de gestión administrativa, docencia e investigación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T.1.3.: 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Búsqueda del  consenso de todos los agentes y unidades implicados en el proceso para su participación efectiva en el mismo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T.1.4.: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 Estudio de los procesos e inicio de cartas de servicio y manual de procesos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95240" y="3063960"/>
                <a:ext cx="152280" cy="50940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0"/>
                      </p:stCondLst>
                      <p:childTnLst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219320" y="587520"/>
            <a:ext cx="7924680" cy="533160"/>
            <a:chOff x="1219320" y="587520"/>
            <a:chExt cx="7924680" cy="533160"/>
          </a:xfrm>
        </p:grpSpPr>
        <p:sp>
          <p:nvSpPr>
            <p:cNvPr id="82" name=""/>
            <p:cNvSpPr/>
            <p:nvPr/>
          </p:nvSpPr>
          <p:spPr>
            <a:xfrm>
              <a:off x="1219320" y="587520"/>
              <a:ext cx="7924680" cy="53316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1311120" y="592200"/>
              <a:ext cx="5318280" cy="457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8f8f8"/>
                  </a:solidFill>
                  <a:latin typeface="Futura Md BT"/>
                </a:rPr>
                <a:t>CALIDAD: ¿POR QUÉ?</a:t>
              </a:r>
              <a:endPara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  <a:ea typeface="Futura Md BT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324480" y="6172200"/>
            <a:ext cx="2819520" cy="22860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7460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522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447920"/>
            <a:ext cx="80103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de"/>
                </a:solidFill>
                <a:latin typeface="Futura Md BT"/>
              </a:rPr>
              <a:t>PARA LA BÚSQUEDA DE SATISFACCIÓN DE LOS GRUPOS DE INTERÉS</a:t>
            </a:r>
            <a:endParaRPr b="1" lang="en-US" sz="1800" spc="1" strike="noStrike">
              <a:ln w="0">
                <a:noFill/>
              </a:ln>
              <a:solidFill>
                <a:srgbClr val="0000de"/>
              </a:solidFill>
              <a:latin typeface="Futura Md BT"/>
              <a:ea typeface="Futura Md BT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057400" y="3429000"/>
            <a:ext cx="2286000" cy="609480"/>
            <a:chOff x="2057400" y="3429000"/>
            <a:chExt cx="2286000" cy="609480"/>
          </a:xfrm>
        </p:grpSpPr>
        <p:sp>
          <p:nvSpPr>
            <p:cNvPr id="89" name=""/>
            <p:cNvSpPr/>
            <p:nvPr/>
          </p:nvSpPr>
          <p:spPr>
            <a:xfrm>
              <a:off x="2152440" y="3429000"/>
              <a:ext cx="2057400" cy="609480"/>
            </a:xfrm>
            <a:prstGeom prst="ellipse">
              <a:avLst/>
            </a:prstGeom>
            <a:solidFill>
              <a:srgbClr val="0000de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57400" y="352404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8f8f8"/>
                  </a:solidFill>
                  <a:latin typeface="Futura Lt BT"/>
                </a:rPr>
                <a:t>ALUM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962520" y="4419720"/>
            <a:ext cx="2286000" cy="703800"/>
            <a:chOff x="3962520" y="4419720"/>
            <a:chExt cx="2286000" cy="703800"/>
          </a:xfrm>
        </p:grpSpPr>
        <p:sp>
          <p:nvSpPr>
            <p:cNvPr id="92" name=""/>
            <p:cNvSpPr/>
            <p:nvPr/>
          </p:nvSpPr>
          <p:spPr>
            <a:xfrm>
              <a:off x="4096080" y="4476960"/>
              <a:ext cx="2057400" cy="609480"/>
            </a:xfrm>
            <a:prstGeom prst="ellipse">
              <a:avLst/>
            </a:prstGeom>
            <a:solidFill>
              <a:srgbClr val="0000de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62520" y="441972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8f8f8"/>
                  </a:solidFill>
                  <a:latin typeface="Futura Lt BT"/>
                </a:rPr>
                <a:t>MERCADO LABO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48520" y="5486400"/>
            <a:ext cx="2286000" cy="609480"/>
            <a:chOff x="6248520" y="5486400"/>
            <a:chExt cx="2286000" cy="609480"/>
          </a:xfrm>
        </p:grpSpPr>
        <p:sp>
          <p:nvSpPr>
            <p:cNvPr id="95" name=""/>
            <p:cNvSpPr/>
            <p:nvPr/>
          </p:nvSpPr>
          <p:spPr>
            <a:xfrm>
              <a:off x="6343560" y="5486400"/>
              <a:ext cx="2057400" cy="609480"/>
            </a:xfrm>
            <a:prstGeom prst="ellipse">
              <a:avLst/>
            </a:prstGeom>
            <a:solidFill>
              <a:srgbClr val="0000de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48520" y="558144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8f8f8"/>
                  </a:solidFill>
                  <a:latin typeface="Futura Lt BT"/>
                </a:rPr>
                <a:t>SOCIE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 flipH="1">
            <a:off x="2209680" y="2057400"/>
            <a:ext cx="5486400" cy="914400"/>
          </a:xfrm>
          <a:prstGeom prst="line">
            <a:avLst/>
          </a:prstGeom>
          <a:ln w="38160">
            <a:solidFill>
              <a:srgbClr val="0000d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191120" y="2057400"/>
            <a:ext cx="3504960" cy="1523880"/>
          </a:xfrm>
          <a:prstGeom prst="line">
            <a:avLst/>
          </a:prstGeom>
          <a:ln w="38160">
            <a:solidFill>
              <a:srgbClr val="0000d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943600" y="2057400"/>
            <a:ext cx="1752480" cy="2514600"/>
          </a:xfrm>
          <a:prstGeom prst="line">
            <a:avLst/>
          </a:prstGeom>
          <a:ln w="38160">
            <a:solidFill>
              <a:srgbClr val="0000d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2280" y="1828800"/>
            <a:ext cx="6572520" cy="685800"/>
            <a:chOff x="152280" y="1828800"/>
            <a:chExt cx="6572520" cy="685800"/>
          </a:xfrm>
        </p:grpSpPr>
        <p:sp>
          <p:nvSpPr>
            <p:cNvPr id="101" name=""/>
            <p:cNvSpPr/>
            <p:nvPr/>
          </p:nvSpPr>
          <p:spPr>
            <a:xfrm>
              <a:off x="152280" y="1828800"/>
              <a:ext cx="6572520" cy="68580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9560" y="1828800"/>
              <a:ext cx="6193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de"/>
                  </a:solidFill>
                  <a:latin typeface="Futura Md BT"/>
                </a:rPr>
                <a:t>“</a:t>
              </a:r>
              <a:r>
                <a:rPr b="1" i="1" lang="es-ES_tradnl" sz="1800" spc="-1" strike="noStrike">
                  <a:solidFill>
                    <a:srgbClr val="0000de"/>
                  </a:solidFill>
                  <a:latin typeface="Futura Md BT"/>
                </a:rPr>
                <a:t>Grado por el cual un conjunto de características satisface los requisitos”</a:t>
              </a:r>
              <a:r>
                <a:rPr b="0" lang="es-ES_tradnl" sz="1800" spc="-1" strike="noStrike">
                  <a:solidFill>
                    <a:srgbClr val="0000de"/>
                  </a:solidFill>
                  <a:latin typeface="Futura Md BT"/>
                </a:rPr>
                <a:t> (UNE-EN-ISO 9000: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828800" y="3352680"/>
            <a:ext cx="457200" cy="228600"/>
          </a:xfrm>
          <a:prstGeom prst="line">
            <a:avLst/>
          </a:prstGeom>
          <a:ln w="38160">
            <a:solidFill>
              <a:srgbClr val="0000d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5257800"/>
            <a:ext cx="914400" cy="457200"/>
          </a:xfrm>
          <a:prstGeom prst="line">
            <a:avLst/>
          </a:prstGeom>
          <a:ln w="38160">
            <a:solidFill>
              <a:srgbClr val="0000d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1219320"/>
            <a:ext cx="2590920" cy="685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2590920"/>
            <a:ext cx="2286000" cy="914040"/>
            <a:chOff x="0" y="2590920"/>
            <a:chExt cx="2286000" cy="914040"/>
          </a:xfrm>
        </p:grpSpPr>
        <p:sp>
          <p:nvSpPr>
            <p:cNvPr id="107" name=""/>
            <p:cNvSpPr/>
            <p:nvPr/>
          </p:nvSpPr>
          <p:spPr>
            <a:xfrm>
              <a:off x="95040" y="2590920"/>
              <a:ext cx="2057400" cy="914040"/>
            </a:xfrm>
            <a:prstGeom prst="ellipse">
              <a:avLst/>
            </a:prstGeom>
            <a:solidFill>
              <a:srgbClr val="0000de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273348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8f8f8"/>
                  </a:solidFill>
                  <a:latin typeface="Futura Lt BT"/>
                </a:rPr>
                <a:t>USUARIOS INTER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flipH="1">
            <a:off x="7391520" y="2057400"/>
            <a:ext cx="304560" cy="3352680"/>
          </a:xfrm>
          <a:prstGeom prst="line">
            <a:avLst/>
          </a:prstGeom>
          <a:ln w="38160">
            <a:solidFill>
              <a:srgbClr val="0000d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114800"/>
            <a:ext cx="838080" cy="457200"/>
          </a:xfrm>
          <a:prstGeom prst="line">
            <a:avLst/>
          </a:prstGeom>
          <a:ln w="38160">
            <a:solidFill>
              <a:srgbClr val="0000d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990720" y="533520"/>
            <a:ext cx="7924680" cy="60948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082520" y="576360"/>
            <a:ext cx="75279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L DPTO. DE ECONOMIA Y EMPRESA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795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33520" y="1447920"/>
            <a:ext cx="8191440" cy="1015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TAREAS A REA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CURSO 2007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09480" y="2514600"/>
            <a:ext cx="8305200" cy="5438160"/>
            <a:chOff x="609480" y="2514600"/>
            <a:chExt cx="8305200" cy="5438160"/>
          </a:xfrm>
        </p:grpSpPr>
        <p:sp>
          <p:nvSpPr>
            <p:cNvPr id="798" name=""/>
            <p:cNvSpPr/>
            <p:nvPr/>
          </p:nvSpPr>
          <p:spPr>
            <a:xfrm>
              <a:off x="609480" y="2514600"/>
              <a:ext cx="8248680" cy="350964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795240" y="2629440"/>
              <a:ext cx="8119440" cy="5323320"/>
              <a:chOff x="795240" y="2629440"/>
              <a:chExt cx="8119440" cy="5323320"/>
            </a:xfrm>
          </p:grpSpPr>
          <p:sp>
            <p:nvSpPr>
              <p:cNvPr id="800" name=""/>
              <p:cNvSpPr/>
              <p:nvPr/>
            </p:nvSpPr>
            <p:spPr>
              <a:xfrm>
                <a:off x="971280" y="2629440"/>
                <a:ext cx="7943400" cy="5323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3333cc"/>
                    </a:solidFill>
                    <a:latin typeface="Futura Md BT"/>
                  </a:rPr>
                  <a:t>T.1.5.: Busqueda de </a:t>
                </a: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servicios de Consultoría en el Diseño e Implantación de Sistemas de Gestión de Calidad (UNE-EN-ISO 9001:2000)</a:t>
                </a:r>
                <a:r>
                  <a:rPr b="1" lang="es-ES" sz="1600" spc="-1" strike="noStrike">
                    <a:solidFill>
                      <a:srgbClr val="3333cc"/>
                    </a:solidFill>
                    <a:latin typeface="Futura Md BT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3333cc"/>
                    </a:solidFill>
                    <a:latin typeface="Futura Md BT"/>
                  </a:rPr>
                  <a:t>T.1.6.: Establecimiento de Manual de Calidad</a:t>
                </a:r>
                <a:r>
                  <a:rPr b="1" lang="es-MX" sz="16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3333cc"/>
                    </a:solidFill>
                    <a:latin typeface="Futura Md BT"/>
                  </a:rPr>
                  <a:t>T.1.7.:</a:t>
                </a:r>
                <a:r>
                  <a:rPr b="1" lang="es-ES" sz="1600" spc="-1" strike="noStrike">
                    <a:solidFill>
                      <a:srgbClr val="3333cc"/>
                    </a:solidFill>
                    <a:latin typeface="Futura Md BT"/>
                  </a:rPr>
                  <a:t> Establecimiento de los procedimientos generales del sistem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3333cc"/>
                    </a:solidFill>
                    <a:latin typeface="Futura Md BT"/>
                  </a:rPr>
                  <a:t>T.1.8.:</a:t>
                </a:r>
                <a:r>
                  <a:rPr b="1" lang="es-ES" sz="1600" spc="-1" strike="noStrike">
                    <a:solidFill>
                      <a:srgbClr val="3333cc"/>
                    </a:solidFill>
                    <a:latin typeface="Futura Md BT"/>
                  </a:rPr>
                  <a:t> Establecimiento de procedimientos operativ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3333cc"/>
                    </a:solidFill>
                    <a:latin typeface="Futura Md BT"/>
                  </a:rPr>
                  <a:t>T.1.9.:</a:t>
                </a:r>
                <a:r>
                  <a:rPr b="1" lang="es-ES" sz="1600" spc="-1" strike="noStrike">
                    <a:solidFill>
                      <a:srgbClr val="3333cc"/>
                    </a:solidFill>
                    <a:latin typeface="Futura Md BT"/>
                  </a:rPr>
                  <a:t> Medición y análi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3333cc"/>
                    </a:solidFill>
                    <a:latin typeface="Futura Md BT"/>
                  </a:rPr>
                  <a:t>T.1.10.:</a:t>
                </a:r>
                <a:r>
                  <a:rPr b="1" lang="es-ES" sz="1600" spc="-1" strike="noStrike">
                    <a:solidFill>
                      <a:srgbClr val="3333cc"/>
                    </a:solidFill>
                    <a:latin typeface="Futura Md BT"/>
                  </a:rPr>
                  <a:t> CERTIFICACIÓN</a:t>
                </a:r>
                <a:r>
                  <a:rPr b="1" lang="es-MX" sz="14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95240" y="2940840"/>
                <a:ext cx="152280" cy="45936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0"/>
                      </p:stCondLst>
                      <p:childTnLst>
                        <p:par>
                          <p:cTn id="1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990720" y="533520"/>
            <a:ext cx="7924680" cy="60948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1082520" y="576360"/>
            <a:ext cx="77565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 LA OFICINA DE SERVICIOS ESTRATÉGICOS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805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304920" y="2438280"/>
            <a:ext cx="8305200" cy="3123720"/>
            <a:chOff x="304920" y="2438280"/>
            <a:chExt cx="8305200" cy="3123720"/>
          </a:xfrm>
        </p:grpSpPr>
        <p:sp>
          <p:nvSpPr>
            <p:cNvPr id="807" name=""/>
            <p:cNvSpPr/>
            <p:nvPr/>
          </p:nvSpPr>
          <p:spPr>
            <a:xfrm>
              <a:off x="304920" y="2438280"/>
              <a:ext cx="8248680" cy="312372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490680" y="2540520"/>
              <a:ext cx="8119440" cy="2226960"/>
              <a:chOff x="490680" y="2540520"/>
              <a:chExt cx="8119440" cy="2226960"/>
            </a:xfrm>
          </p:grpSpPr>
          <p:sp>
            <p:nvSpPr>
              <p:cNvPr id="809" name=""/>
              <p:cNvSpPr/>
              <p:nvPr/>
            </p:nvSpPr>
            <p:spPr>
              <a:xfrm>
                <a:off x="666720" y="2540520"/>
                <a:ext cx="7943400" cy="22269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Futura Md BT"/>
                  </a:rPr>
                  <a:t>La O.S.E. actúa como estructura de soporte en los contratos programa de la Escuela de Ingenieros y el Departamento de Economía y Empresa. La cláusula de participación fue admitida voluntariamente por la unida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90680" y="2817360"/>
                <a:ext cx="152280" cy="40824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0"/>
                      </p:stCondLst>
                      <p:childTnLst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990720" y="533520"/>
            <a:ext cx="7924680" cy="60948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1082520" y="576360"/>
            <a:ext cx="77565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 LA OFICINA DE SERVICIOS ESTRATÉGICOS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813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1680" y="1447920"/>
            <a:ext cx="8191440" cy="1015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JUST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lación con la evaluación institucional de la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04920" y="2514600"/>
            <a:ext cx="8609400" cy="4822920"/>
            <a:chOff x="304920" y="2514600"/>
            <a:chExt cx="8609400" cy="4822920"/>
          </a:xfrm>
        </p:grpSpPr>
        <p:sp>
          <p:nvSpPr>
            <p:cNvPr id="816" name=""/>
            <p:cNvSpPr/>
            <p:nvPr/>
          </p:nvSpPr>
          <p:spPr>
            <a:xfrm>
              <a:off x="304920" y="2514600"/>
              <a:ext cx="8551440" cy="419184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497160" y="2651760"/>
              <a:ext cx="8417160" cy="4685760"/>
              <a:chOff x="497160" y="2651760"/>
              <a:chExt cx="8417160" cy="4685760"/>
            </a:xfrm>
          </p:grpSpPr>
          <p:sp>
            <p:nvSpPr>
              <p:cNvPr id="818" name=""/>
              <p:cNvSpPr/>
              <p:nvPr/>
            </p:nvSpPr>
            <p:spPr>
              <a:xfrm>
                <a:off x="679680" y="2651760"/>
                <a:ext cx="8234640" cy="46857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Futura Md BT"/>
                  </a:rPr>
                  <a:t>Todas las acciones previstas en el contrato de la propia O.S.E. cumplen con los requerimientos de certificación de servicios de la ANECA. Sus objetivos fundamentales son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125"/>
                  </a:spcBef>
                  <a:buClr>
                    <a:srgbClr val="3333cc"/>
                  </a:buClr>
                  <a:buFont typeface="Futura Md BT"/>
                  <a:buAutoNum type="alphaL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Futura Md BT"/>
                  </a:rPr>
                  <a:t>BS: Facilitar la comunicación entre los miembros de la comunidad universitaria y la OSE y obtener indicadores de satisfac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125"/>
                  </a:spcBef>
                  <a:buClr>
                    <a:srgbClr val="3333cc"/>
                  </a:buClr>
                  <a:buFont typeface="Futura Md BT"/>
                  <a:buAutoNum type="alphaL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Futura Md BT"/>
                  </a:rPr>
                  <a:t>SAPI: Facilitar el establecimiento de cauces de petición de información así como  la monitorización del proceso de atención a las peticiones estadística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125"/>
                  </a:spcBef>
                  <a:buClr>
                    <a:srgbClr val="3333cc"/>
                  </a:buClr>
                  <a:buFont typeface="Futura Md BT"/>
                  <a:buAutoNum type="alphaL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Futura Md BT"/>
                  </a:rPr>
                  <a:t>CC: Posibilitar la flexibilidad administrativa y adaptar la misma a las necesidades de los usuarios para la mejora de su atención. Así, conocerán por anticipado que clase de servicio pueden esperar y demandar y cuáles son los compromisos de calidad de la un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125"/>
                  </a:spcBef>
                  <a:buClr>
                    <a:srgbClr val="3333cc"/>
                  </a:buClr>
                  <a:buFont typeface="Futura Md BT"/>
                  <a:buAutoNum type="alphaL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97160" y="3025080"/>
                <a:ext cx="158040" cy="5500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0"/>
                      </p:stCondLst>
                      <p:childTnLst>
                        <p:par>
                          <p:cTn id="1207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990720" y="533520"/>
            <a:ext cx="7924680" cy="53316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082520" y="576360"/>
            <a:ext cx="7527960" cy="338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 LA OFICINA DE SERVICIOS ESTRATÉGICOS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822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533520" y="2590920"/>
            <a:ext cx="8305200" cy="838080"/>
            <a:chOff x="533520" y="2590920"/>
            <a:chExt cx="8305200" cy="838080"/>
          </a:xfrm>
        </p:grpSpPr>
        <p:sp>
          <p:nvSpPr>
            <p:cNvPr id="824" name=""/>
            <p:cNvSpPr/>
            <p:nvPr/>
          </p:nvSpPr>
          <p:spPr>
            <a:xfrm>
              <a:off x="533520" y="2590920"/>
              <a:ext cx="8248680" cy="8380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719280" y="2618280"/>
              <a:ext cx="8119440" cy="642600"/>
              <a:chOff x="719280" y="2618280"/>
              <a:chExt cx="8119440" cy="642600"/>
            </a:xfrm>
          </p:grpSpPr>
          <p:sp>
            <p:nvSpPr>
              <p:cNvPr id="826" name=""/>
              <p:cNvSpPr/>
              <p:nvPr/>
            </p:nvSpPr>
            <p:spPr>
              <a:xfrm>
                <a:off x="895320" y="2618280"/>
                <a:ext cx="79434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os objetivos del contrato permiten obtener indicadores directos del grado de satisfacción de la comunidad universitar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19280" y="2692800"/>
                <a:ext cx="152280" cy="10980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8" name=""/>
          <p:cNvSpPr/>
          <p:nvPr/>
        </p:nvSpPr>
        <p:spPr>
          <a:xfrm>
            <a:off x="571680" y="1447920"/>
            <a:ext cx="8191440" cy="1015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JUST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lación con la planificación estraté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533520" y="3886200"/>
            <a:ext cx="8305200" cy="1066680"/>
            <a:chOff x="533520" y="3886200"/>
            <a:chExt cx="8305200" cy="1066680"/>
          </a:xfrm>
        </p:grpSpPr>
        <p:sp>
          <p:nvSpPr>
            <p:cNvPr id="830" name=""/>
            <p:cNvSpPr/>
            <p:nvPr/>
          </p:nvSpPr>
          <p:spPr>
            <a:xfrm>
              <a:off x="533520" y="388620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719280" y="3921120"/>
              <a:ext cx="8119440" cy="642600"/>
              <a:chOff x="719280" y="3921120"/>
              <a:chExt cx="8119440" cy="642600"/>
            </a:xfrm>
          </p:grpSpPr>
          <p:sp>
            <p:nvSpPr>
              <p:cNvPr id="832" name=""/>
              <p:cNvSpPr/>
              <p:nvPr/>
            </p:nvSpPr>
            <p:spPr>
              <a:xfrm>
                <a:off x="895320" y="3921120"/>
                <a:ext cx="79434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de"/>
                    </a:solidFill>
                    <a:latin typeface="Futura Md BT"/>
                  </a:rPr>
                  <a:t>También favorecen el establecimiento de cauces de comunicación intrauniversitari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19280" y="4015440"/>
                <a:ext cx="152280" cy="1393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4" name=""/>
          <p:cNvGrpSpPr/>
          <p:nvPr/>
        </p:nvGrpSpPr>
        <p:grpSpPr>
          <a:xfrm>
            <a:off x="533520" y="5181480"/>
            <a:ext cx="8305200" cy="1066680"/>
            <a:chOff x="533520" y="5181480"/>
            <a:chExt cx="8305200" cy="1066680"/>
          </a:xfrm>
        </p:grpSpPr>
        <p:sp>
          <p:nvSpPr>
            <p:cNvPr id="835" name=""/>
            <p:cNvSpPr/>
            <p:nvPr/>
          </p:nvSpPr>
          <p:spPr>
            <a:xfrm>
              <a:off x="533520" y="518148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"/>
            <p:cNvGrpSpPr/>
            <p:nvPr/>
          </p:nvGrpSpPr>
          <p:grpSpPr>
            <a:xfrm>
              <a:off x="719280" y="5216400"/>
              <a:ext cx="8119440" cy="642600"/>
              <a:chOff x="719280" y="5216400"/>
              <a:chExt cx="8119440" cy="642600"/>
            </a:xfrm>
          </p:grpSpPr>
          <p:sp>
            <p:nvSpPr>
              <p:cNvPr id="837" name=""/>
              <p:cNvSpPr/>
              <p:nvPr/>
            </p:nvSpPr>
            <p:spPr>
              <a:xfrm>
                <a:off x="895320" y="5216400"/>
                <a:ext cx="79434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a Carta de Compromisos constituye un paso adelante en la planificación estratégica de la un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19280" y="5311440"/>
                <a:ext cx="152280" cy="14004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990720" y="533520"/>
            <a:ext cx="7924680" cy="68580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1082520" y="576360"/>
            <a:ext cx="7527960" cy="490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 LA OFICINA DE SERVICIOS ESTRATÉGICOS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841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1680" y="1447920"/>
            <a:ext cx="8191440" cy="138168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JUST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ferencia a indicadores y criterios de calidad de la AN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533520" y="3429000"/>
            <a:ext cx="8305200" cy="1066680"/>
            <a:chOff x="533520" y="3429000"/>
            <a:chExt cx="8305200" cy="1066680"/>
          </a:xfrm>
        </p:grpSpPr>
        <p:sp>
          <p:nvSpPr>
            <p:cNvPr id="844" name=""/>
            <p:cNvSpPr/>
            <p:nvPr/>
          </p:nvSpPr>
          <p:spPr>
            <a:xfrm>
              <a:off x="533520" y="342900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719280" y="3463920"/>
              <a:ext cx="8119440" cy="916920"/>
              <a:chOff x="719280" y="3463920"/>
              <a:chExt cx="8119440" cy="916920"/>
            </a:xfrm>
          </p:grpSpPr>
          <p:sp>
            <p:nvSpPr>
              <p:cNvPr id="846" name=""/>
              <p:cNvSpPr/>
              <p:nvPr/>
            </p:nvSpPr>
            <p:spPr>
              <a:xfrm>
                <a:off x="895320" y="3463920"/>
                <a:ext cx="7943400" cy="9169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as acciones del contrato incluyen la gran mayoría de los relacionados con el grado de satisfacción de los colectivos universitarios y los sistemas de gestión de la cal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19280" y="3558600"/>
                <a:ext cx="152280" cy="1396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500"/>
                            </p:stCondLst>
                            <p:childTnLst>
                              <p:par>
                                <p:cTn id="128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990720" y="533520"/>
            <a:ext cx="7924680" cy="68580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1082520" y="576360"/>
            <a:ext cx="75279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 LA OFICINA DE SERVICIOS ESTRATÉGICOS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850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33520" y="1447920"/>
            <a:ext cx="8191440" cy="1015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JUST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plicabilidad a otr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533520" y="3429000"/>
            <a:ext cx="8305200" cy="1094760"/>
            <a:chOff x="533520" y="3429000"/>
            <a:chExt cx="8305200" cy="1094760"/>
          </a:xfrm>
        </p:grpSpPr>
        <p:sp>
          <p:nvSpPr>
            <p:cNvPr id="853" name=""/>
            <p:cNvSpPr/>
            <p:nvPr/>
          </p:nvSpPr>
          <p:spPr>
            <a:xfrm>
              <a:off x="533520" y="3429000"/>
              <a:ext cx="8248680" cy="106668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719280" y="3463920"/>
              <a:ext cx="8119440" cy="1059840"/>
              <a:chOff x="719280" y="3463920"/>
              <a:chExt cx="8119440" cy="1059840"/>
            </a:xfrm>
          </p:grpSpPr>
          <p:sp>
            <p:nvSpPr>
              <p:cNvPr id="855" name=""/>
              <p:cNvSpPr/>
              <p:nvPr/>
            </p:nvSpPr>
            <p:spPr>
              <a:xfrm>
                <a:off x="895320" y="3463920"/>
                <a:ext cx="7943400" cy="1059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de"/>
                    </a:solidFill>
                    <a:latin typeface="Futura Md BT"/>
                  </a:rPr>
                  <a:t>Las acciones del contrato son aplicables a cualquier estamento de la gestión universitar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19280" y="3558600"/>
                <a:ext cx="152280" cy="13932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0"/>
                      </p:stCondLst>
                      <p:childTnLst>
                        <p:par>
                          <p:cTn id="132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990720" y="533520"/>
            <a:ext cx="7924680" cy="68580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1082520" y="576360"/>
            <a:ext cx="752796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</a:rPr>
              <a:t>CONTRATO PROGRAMA DE LA OFICINA DE SERVICIOS ESTRATÉGICOS</a:t>
            </a:r>
            <a:endParaRPr b="1" lang="en-US" sz="2000" spc="1" strike="noStrike">
              <a:ln w="0">
                <a:noFill/>
              </a:ln>
              <a:solidFill>
                <a:srgbClr val="f8f8f8"/>
              </a:solidFill>
              <a:latin typeface="Futura Md BT"/>
              <a:ea typeface="Futura Md BT"/>
            </a:endParaRPr>
          </a:p>
        </p:txBody>
      </p:sp>
      <p:sp>
        <p:nvSpPr>
          <p:cNvPr id="859" name=""/>
          <p:cNvSpPr/>
          <p:nvPr/>
        </p:nvSpPr>
        <p:spPr>
          <a:xfrm>
            <a:off x="6324480" y="640080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3520" y="1447920"/>
            <a:ext cx="8191440" cy="1015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TAREAS A REA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CURSO 2005-200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609480" y="2590920"/>
            <a:ext cx="8305200" cy="5236200"/>
            <a:chOff x="609480" y="2590920"/>
            <a:chExt cx="8305200" cy="5236200"/>
          </a:xfrm>
        </p:grpSpPr>
        <p:sp>
          <p:nvSpPr>
            <p:cNvPr id="862" name=""/>
            <p:cNvSpPr/>
            <p:nvPr/>
          </p:nvSpPr>
          <p:spPr>
            <a:xfrm>
              <a:off x="609480" y="2590920"/>
              <a:ext cx="8248680" cy="346032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795240" y="2703960"/>
              <a:ext cx="8119440" cy="5123160"/>
              <a:chOff x="795240" y="2703960"/>
              <a:chExt cx="8119440" cy="5123160"/>
            </a:xfrm>
          </p:grpSpPr>
          <p:sp>
            <p:nvSpPr>
              <p:cNvPr id="864" name=""/>
              <p:cNvSpPr/>
              <p:nvPr/>
            </p:nvSpPr>
            <p:spPr>
              <a:xfrm>
                <a:off x="971280" y="2703960"/>
                <a:ext cx="7943400" cy="51231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Acción 1: 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Creación de un buzón de quejas y sugerencias que permita conocer el grado de satisfacción de la comunidad universitaria con la OSE. Todas las tareas han sido realizad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Acción 2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Futura Md BT"/>
                  </a:rPr>
                  <a:t>: Creación de un sistema de atención a las peticiones de información que permita la monitorización de las demandas de información. Todas las tareas han sido realizad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Acción 3: Elaboración de una Carta de Compromisos de la unidad. Se han realizado las tareas de benchmarking y formación. El proceso se desarrolla sin retrasos y concluirá el próximo septiemb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r>
                  <a:rPr b="1" lang="es-MX" sz="1800" spc="-1" strike="noStrike">
                    <a:solidFill>
                      <a:srgbClr val="3333cc"/>
                    </a:solidFill>
                    <a:latin typeface="Futura Md BT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95240" y="3011400"/>
                <a:ext cx="152280" cy="45324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d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0"/>
                      </p:stCondLst>
                      <p:childTnLst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0" y="12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0" y="123840"/>
            <a:ext cx="914400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15236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99880" y="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299880" y="9360"/>
            <a:ext cx="854424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-1371600" y="-342900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219320" y="609480"/>
            <a:ext cx="7924680" cy="533160"/>
            <a:chOff x="1219320" y="609480"/>
            <a:chExt cx="7924680" cy="533160"/>
          </a:xfrm>
        </p:grpSpPr>
        <p:sp>
          <p:nvSpPr>
            <p:cNvPr id="112" name=""/>
            <p:cNvSpPr/>
            <p:nvPr/>
          </p:nvSpPr>
          <p:spPr>
            <a:xfrm>
              <a:off x="1219320" y="609480"/>
              <a:ext cx="7924680" cy="53316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1311120" y="614160"/>
              <a:ext cx="5318280" cy="457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8f8f8"/>
                  </a:solidFill>
                  <a:latin typeface="Futura Md BT"/>
                </a:rPr>
                <a:t>CALIDAD: ¿CÓMO?</a:t>
              </a:r>
              <a:endPara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  <a:ea typeface="Futura Md BT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14400" y="1905120"/>
            <a:ext cx="7467480" cy="9169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8f8f8"/>
                </a:solidFill>
                <a:latin typeface="Futura Lt BT"/>
              </a:rPr>
              <a:t>LEY ORGÁNICA 6/2001, DE 6 DE DICIEMBRE, DE UNIVERSIDADES                                                                                          TÍTULO V. DE LA EVALUACIÓN Y ACREDI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48000" y="2743200"/>
            <a:ext cx="685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de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3200400"/>
            <a:ext cx="8248680" cy="761760"/>
            <a:chOff x="457200" y="3200400"/>
            <a:chExt cx="8248680" cy="761760"/>
          </a:xfrm>
        </p:grpSpPr>
        <p:sp>
          <p:nvSpPr>
            <p:cNvPr id="117" name=""/>
            <p:cNvSpPr/>
            <p:nvPr/>
          </p:nvSpPr>
          <p:spPr>
            <a:xfrm>
              <a:off x="457200" y="3200400"/>
              <a:ext cx="8248680" cy="761760"/>
            </a:xfrm>
            <a:prstGeom prst="roundRect">
              <a:avLst>
                <a:gd name="adj" fmla="val 16667"/>
              </a:avLst>
            </a:prstGeom>
            <a:solidFill>
              <a:srgbClr val="f8f8f8"/>
            </a:solidFill>
            <a:ln w="12600">
              <a:solidFill>
                <a:srgbClr val="0000de"/>
              </a:solidFill>
              <a:miter/>
            </a:ln>
            <a:effectLst>
              <a:outerShdw dist="107932" dir="2700000" blurRad="0" rotWithShape="0">
                <a:srgbClr val="3f3e0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4880" y="3200400"/>
              <a:ext cx="7772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de"/>
                  </a:solidFill>
                  <a:latin typeface="Futura Lt BT"/>
                </a:rPr>
                <a:t>Los OBJETIVOS se cumplirán mediante la EVALUACIÓN, CERTIFICACIÓN y ACREDITACIÓN (Art.31.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324480" y="609588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LOGO COLOR SIN TEXTO 2" descr=""/>
          <p:cNvPicPr/>
          <p:nvPr/>
        </p:nvPicPr>
        <p:blipFill>
          <a:blip r:embed="rId2"/>
          <a:stretch/>
        </p:blipFill>
        <p:spPr>
          <a:xfrm>
            <a:off x="3511440" y="990720"/>
            <a:ext cx="4870440" cy="586728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1219320" y="533520"/>
            <a:ext cx="7924680" cy="533160"/>
            <a:chOff x="1219320" y="533520"/>
            <a:chExt cx="7924680" cy="533160"/>
          </a:xfrm>
        </p:grpSpPr>
        <p:sp>
          <p:nvSpPr>
            <p:cNvPr id="122" name=""/>
            <p:cNvSpPr/>
            <p:nvPr/>
          </p:nvSpPr>
          <p:spPr>
            <a:xfrm>
              <a:off x="1219320" y="533520"/>
              <a:ext cx="7924680" cy="53316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311120" y="538200"/>
              <a:ext cx="5318280" cy="457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8f8f8"/>
                  </a:solidFill>
                  <a:latin typeface="Futura Md BT"/>
                </a:rPr>
                <a:t>CALIDAD: ¿CÓMO?</a:t>
              </a:r>
              <a:endPara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  <a:ea typeface="Futura Md BT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324480" y="609588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1600200"/>
            <a:ext cx="8801280" cy="1711080"/>
            <a:chOff x="228600" y="1600200"/>
            <a:chExt cx="8801280" cy="1711080"/>
          </a:xfrm>
        </p:grpSpPr>
        <p:sp>
          <p:nvSpPr>
            <p:cNvPr id="126" name=""/>
            <p:cNvSpPr/>
            <p:nvPr/>
          </p:nvSpPr>
          <p:spPr>
            <a:xfrm>
              <a:off x="228600" y="1706400"/>
              <a:ext cx="2438280" cy="91692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8f8f8"/>
                  </a:solidFill>
                  <a:latin typeface="Futura Lt BT"/>
                </a:rPr>
                <a:t>PROGRAMA             DE      ACREDI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781360" y="1600200"/>
              <a:ext cx="6248520" cy="1711080"/>
              <a:chOff x="2781360" y="1600200"/>
              <a:chExt cx="6248520" cy="1711080"/>
            </a:xfrm>
          </p:grpSpPr>
          <p:sp>
            <p:nvSpPr>
              <p:cNvPr id="128" name=""/>
              <p:cNvSpPr/>
              <p:nvPr/>
            </p:nvSpPr>
            <p:spPr>
              <a:xfrm>
                <a:off x="2781360" y="1600200"/>
                <a:ext cx="6248520" cy="1085760"/>
              </a:xfrm>
              <a:prstGeom prst="roundRect">
                <a:avLst>
                  <a:gd name="adj" fmla="val 16667"/>
                </a:avLst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00de"/>
                </a:solidFill>
                <a:miter/>
              </a:ln>
              <a:effectLst>
                <a:outerShdw dist="107932" dir="2700000" blurRad="0" rotWithShape="0">
                  <a:srgbClr val="3f3e0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2857680" y="1630080"/>
                <a:ext cx="6095880" cy="1681200"/>
                <a:chOff x="2857680" y="1630080"/>
                <a:chExt cx="6095880" cy="1681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009960" y="1630080"/>
                  <a:ext cx="5943600" cy="16812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Evaluación de</a:t>
                  </a:r>
                  <a:r>
                    <a:rPr b="1" lang="es-ES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 las enseñanzas universitarias conducentes a la obtención de títulos de carácter oficial y validez en todo el territorio nacional para que los planes de mejora puedan orientarse hacia su cumplimient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857680" y="1706040"/>
                  <a:ext cx="152280" cy="152640"/>
                </a:xfrm>
                <a:prstGeom prst="flowChartConnector">
                  <a:avLst/>
                </a:prstGeom>
                <a:gradFill rotWithShape="0">
                  <a:gsLst>
                    <a:gs pos="0">
                      <a:srgbClr val="000066"/>
                    </a:gs>
                    <a:gs pos="100000">
                      <a:srgbClr val="0000d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2" name=""/>
          <p:cNvGrpSpPr/>
          <p:nvPr/>
        </p:nvGrpSpPr>
        <p:grpSpPr>
          <a:xfrm>
            <a:off x="266760" y="2978280"/>
            <a:ext cx="8716680" cy="966240"/>
            <a:chOff x="266760" y="2978280"/>
            <a:chExt cx="8716680" cy="966240"/>
          </a:xfrm>
        </p:grpSpPr>
        <p:sp>
          <p:nvSpPr>
            <p:cNvPr id="133" name=""/>
            <p:cNvSpPr/>
            <p:nvPr/>
          </p:nvSpPr>
          <p:spPr>
            <a:xfrm>
              <a:off x="266760" y="3027600"/>
              <a:ext cx="2414880" cy="91692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8f8f8"/>
                  </a:solidFill>
                  <a:latin typeface="Futura Lt BT"/>
                </a:rPr>
                <a:t>PROGRAMA DE EVAL. INSTITU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795040" y="2978280"/>
              <a:ext cx="6188400" cy="873720"/>
              <a:chOff x="2795040" y="2978280"/>
              <a:chExt cx="6188400" cy="873720"/>
            </a:xfrm>
          </p:grpSpPr>
          <p:sp>
            <p:nvSpPr>
              <p:cNvPr id="135" name=""/>
              <p:cNvSpPr/>
              <p:nvPr/>
            </p:nvSpPr>
            <p:spPr>
              <a:xfrm>
                <a:off x="2795040" y="2978280"/>
                <a:ext cx="6188400" cy="852120"/>
              </a:xfrm>
              <a:prstGeom prst="roundRect">
                <a:avLst>
                  <a:gd name="adj" fmla="val 16667"/>
                </a:avLst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00de"/>
                </a:solidFill>
                <a:miter/>
              </a:ln>
              <a:effectLst>
                <a:outerShdw dist="107932" dir="2700000" blurRad="0" rotWithShape="0">
                  <a:srgbClr val="3f3e0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2869920" y="3027960"/>
                <a:ext cx="6037560" cy="824040"/>
                <a:chOff x="2869920" y="3027960"/>
                <a:chExt cx="6037560" cy="8240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023640" y="3027960"/>
                  <a:ext cx="5883840" cy="8240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C</a:t>
                  </a:r>
                  <a:r>
                    <a:rPr b="1" lang="es-ES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omproba</a:t>
                  </a:r>
                  <a:r>
                    <a:rPr b="1" lang="es-ES_tradnl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ción</a:t>
                  </a:r>
                  <a:r>
                    <a:rPr b="1" lang="es-ES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d</a:t>
                  </a:r>
                  <a:r>
                    <a:rPr b="1" lang="es-ES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el cumplimiento de los criterios indicados, los estándares establecidos previamente y resultados de la formación</a:t>
                  </a:r>
                  <a:r>
                    <a:rPr b="0" lang="es-ES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869920" y="3127320"/>
                  <a:ext cx="150480" cy="199800"/>
                </a:xfrm>
                <a:prstGeom prst="flowChartConnector">
                  <a:avLst/>
                </a:prstGeom>
                <a:gradFill rotWithShape="0">
                  <a:gsLst>
                    <a:gs pos="0">
                      <a:srgbClr val="000066"/>
                    </a:gs>
                    <a:gs pos="100000">
                      <a:srgbClr val="0000d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9" name=""/>
          <p:cNvGrpSpPr/>
          <p:nvPr/>
        </p:nvGrpSpPr>
        <p:grpSpPr>
          <a:xfrm>
            <a:off x="266760" y="3892680"/>
            <a:ext cx="8716680" cy="1478520"/>
            <a:chOff x="266760" y="3892680"/>
            <a:chExt cx="8716680" cy="1478520"/>
          </a:xfrm>
        </p:grpSpPr>
        <p:sp>
          <p:nvSpPr>
            <p:cNvPr id="140" name=""/>
            <p:cNvSpPr/>
            <p:nvPr/>
          </p:nvSpPr>
          <p:spPr>
            <a:xfrm>
              <a:off x="266760" y="4217760"/>
              <a:ext cx="2414880" cy="64260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8f8f8"/>
                  </a:solidFill>
                  <a:latin typeface="Futura Lt BT"/>
                </a:rPr>
                <a:t>PROGRAMA DE CERT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795040" y="3892680"/>
              <a:ext cx="6188400" cy="1478520"/>
              <a:chOff x="2795040" y="3892680"/>
              <a:chExt cx="6188400" cy="1478520"/>
            </a:xfrm>
          </p:grpSpPr>
          <p:sp>
            <p:nvSpPr>
              <p:cNvPr id="142" name=""/>
              <p:cNvSpPr/>
              <p:nvPr/>
            </p:nvSpPr>
            <p:spPr>
              <a:xfrm>
                <a:off x="2795040" y="3892680"/>
                <a:ext cx="6188400" cy="1387080"/>
              </a:xfrm>
              <a:prstGeom prst="roundRect">
                <a:avLst>
                  <a:gd name="adj" fmla="val 16667"/>
                </a:avLst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00de"/>
                </a:solidFill>
                <a:miter/>
              </a:ln>
              <a:effectLst>
                <a:outerShdw dist="107932" dir="2700000" blurRad="0" rotWithShape="0">
                  <a:srgbClr val="3f3e0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2869920" y="3939120"/>
                <a:ext cx="6037560" cy="580680"/>
                <a:chOff x="2869920" y="3939120"/>
                <a:chExt cx="6037560" cy="5806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022200" y="3939120"/>
                  <a:ext cx="5885280" cy="5806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Evaluación externa y voluntaria para la comprobación del cumplimiento de especificaciones establecidas</a:t>
                  </a:r>
                  <a:r>
                    <a:rPr b="0" lang="es-ES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869920" y="4031640"/>
                  <a:ext cx="150480" cy="186120"/>
                </a:xfrm>
                <a:prstGeom prst="flowChartConnector">
                  <a:avLst/>
                </a:prstGeom>
                <a:gradFill rotWithShape="0">
                  <a:gsLst>
                    <a:gs pos="0">
                      <a:srgbClr val="000066"/>
                    </a:gs>
                    <a:gs pos="100000">
                      <a:srgbClr val="0000d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2869920" y="4547160"/>
                <a:ext cx="6037560" cy="824040"/>
                <a:chOff x="2869920" y="4547160"/>
                <a:chExt cx="6037560" cy="8240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022200" y="4547160"/>
                  <a:ext cx="5885280" cy="8240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Actuaciones: Mención de Calidad en Programas de Doctorado y Certificado de Calidad de los Servicios de Biblioteca</a:t>
                  </a:r>
                  <a:r>
                    <a:rPr b="0" lang="es-ES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69920" y="4639680"/>
                  <a:ext cx="150480" cy="186120"/>
                </a:xfrm>
                <a:prstGeom prst="flowChartConnector">
                  <a:avLst/>
                </a:prstGeom>
                <a:gradFill rotWithShape="0">
                  <a:gsLst>
                    <a:gs pos="0">
                      <a:srgbClr val="000066"/>
                    </a:gs>
                    <a:gs pos="100000">
                      <a:srgbClr val="0000d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9" name=""/>
          <p:cNvGrpSpPr/>
          <p:nvPr/>
        </p:nvGrpSpPr>
        <p:grpSpPr>
          <a:xfrm>
            <a:off x="266760" y="5178600"/>
            <a:ext cx="8800920" cy="1382760"/>
            <a:chOff x="266760" y="5178600"/>
            <a:chExt cx="8800920" cy="1382760"/>
          </a:xfrm>
        </p:grpSpPr>
        <p:sp>
          <p:nvSpPr>
            <p:cNvPr id="150" name=""/>
            <p:cNvSpPr/>
            <p:nvPr/>
          </p:nvSpPr>
          <p:spPr>
            <a:xfrm>
              <a:off x="266760" y="5178600"/>
              <a:ext cx="2438280" cy="91692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8f8f8"/>
                  </a:solidFill>
                  <a:latin typeface="Futura Lt BT"/>
                </a:rPr>
                <a:t>PROGRAMA DE EVALUACIÓN DEL PROFESO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2819520" y="5319720"/>
              <a:ext cx="6248160" cy="1241640"/>
              <a:chOff x="2819520" y="5319720"/>
              <a:chExt cx="6248160" cy="1241640"/>
            </a:xfrm>
          </p:grpSpPr>
          <p:sp>
            <p:nvSpPr>
              <p:cNvPr id="152" name=""/>
              <p:cNvSpPr/>
              <p:nvPr/>
            </p:nvSpPr>
            <p:spPr>
              <a:xfrm>
                <a:off x="2819520" y="5319720"/>
                <a:ext cx="6248160" cy="805680"/>
              </a:xfrm>
              <a:prstGeom prst="roundRect">
                <a:avLst>
                  <a:gd name="adj" fmla="val 16667"/>
                </a:avLst>
              </a:prstGeom>
              <a:solidFill>
                <a:srgbClr val="f8f8f8">
                  <a:alpha val="50000"/>
                </a:srgbClr>
              </a:solidFill>
              <a:ln w="12600">
                <a:solidFill>
                  <a:srgbClr val="0000de"/>
                </a:solidFill>
                <a:miter/>
              </a:ln>
              <a:effectLst>
                <a:outerShdw dist="107932" dir="2700000" blurRad="0" rotWithShape="0">
                  <a:srgbClr val="3f3e0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2895480" y="5366880"/>
                <a:ext cx="6095880" cy="1194480"/>
                <a:chOff x="2895480" y="5366880"/>
                <a:chExt cx="6095880" cy="11944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047760" y="5366880"/>
                  <a:ext cx="5943600" cy="1194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E</a:t>
                  </a:r>
                  <a:r>
                    <a:rPr b="1" lang="es-ES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valuación de </a:t>
                  </a:r>
                  <a:r>
                    <a:rPr b="1" lang="es-ES_tradnl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la</a:t>
                  </a:r>
                  <a:r>
                    <a:rPr b="1" lang="es-ES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 actividad docente e investigadora </a:t>
                  </a:r>
                  <a:r>
                    <a:rPr b="1" lang="es-ES_tradnl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del profesorado </a:t>
                  </a:r>
                  <a:r>
                    <a:rPr b="1" lang="es-ES" sz="1600" spc="-1" strike="noStrike">
                      <a:solidFill>
                        <a:srgbClr val="0000de"/>
                      </a:solidFill>
                      <a:latin typeface="Futura Lt BT"/>
                      <a:ea typeface="Times New Roman"/>
                    </a:rPr>
                    <a:t>a efectos de su contratación por una Universidad pública o privad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895480" y="5460840"/>
                  <a:ext cx="152280" cy="189000"/>
                </a:xfrm>
                <a:prstGeom prst="flowChartConnector">
                  <a:avLst/>
                </a:prstGeom>
                <a:gradFill rotWithShape="0">
                  <a:gsLst>
                    <a:gs pos="0">
                      <a:srgbClr val="000066"/>
                    </a:gs>
                    <a:gs pos="100000">
                      <a:srgbClr val="0000d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e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219320" y="533520"/>
            <a:ext cx="7924680" cy="533160"/>
            <a:chOff x="1219320" y="533520"/>
            <a:chExt cx="7924680" cy="533160"/>
          </a:xfrm>
        </p:grpSpPr>
        <p:sp>
          <p:nvSpPr>
            <p:cNvPr id="157" name=""/>
            <p:cNvSpPr/>
            <p:nvPr/>
          </p:nvSpPr>
          <p:spPr>
            <a:xfrm>
              <a:off x="1219320" y="533520"/>
              <a:ext cx="7924680" cy="53316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1311120" y="538200"/>
              <a:ext cx="5318280" cy="457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8f8f8"/>
                  </a:solidFill>
                  <a:latin typeface="Futura Md BT"/>
                </a:rPr>
                <a:t>CALIDAD: ¿CÓMO?</a:t>
              </a:r>
              <a:endPara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  <a:ea typeface="Futura Md BT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324480" y="632448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200400" y="2874960"/>
          <a:ext cx="472428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874960"/>
                    <a:ext cx="472428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2" name=""/>
          <p:cNvGrpSpPr/>
          <p:nvPr/>
        </p:nvGrpSpPr>
        <p:grpSpPr>
          <a:xfrm>
            <a:off x="774720" y="1981080"/>
            <a:ext cx="3949560" cy="1428840"/>
            <a:chOff x="774720" y="1981080"/>
            <a:chExt cx="3949560" cy="1428840"/>
          </a:xfrm>
        </p:grpSpPr>
        <p:sp>
          <p:nvSpPr>
            <p:cNvPr id="163" name=""/>
            <p:cNvSpPr/>
            <p:nvPr/>
          </p:nvSpPr>
          <p:spPr>
            <a:xfrm>
              <a:off x="3200400" y="2990880"/>
              <a:ext cx="152388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2285640" y="2590920"/>
              <a:ext cx="1600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74720" y="1981080"/>
              <a:ext cx="2959200" cy="824040"/>
              <a:chOff x="774720" y="1981080"/>
              <a:chExt cx="2959200" cy="824040"/>
            </a:xfrm>
          </p:grpSpPr>
          <p:sp>
            <p:nvSpPr>
              <p:cNvPr id="166" name=""/>
              <p:cNvSpPr/>
              <p:nvPr/>
            </p:nvSpPr>
            <p:spPr>
              <a:xfrm>
                <a:off x="914400" y="1981080"/>
                <a:ext cx="2819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Futura Lt BT"/>
                  </a:rPr>
                  <a:t>Objetivos del P.Formativo                 Plan de Estudios y Estructur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74720" y="2070000"/>
                <a:ext cx="152640" cy="15264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74720" y="2311560"/>
                <a:ext cx="15264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774720" y="3228840"/>
            <a:ext cx="3968640" cy="824040"/>
            <a:chOff x="774720" y="3228840"/>
            <a:chExt cx="3968640" cy="824040"/>
          </a:xfrm>
        </p:grpSpPr>
        <p:sp>
          <p:nvSpPr>
            <p:cNvPr id="170" name=""/>
            <p:cNvSpPr/>
            <p:nvPr/>
          </p:nvSpPr>
          <p:spPr>
            <a:xfrm>
              <a:off x="3219480" y="3581280"/>
              <a:ext cx="1523880" cy="419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3123720" y="358128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74720" y="3228840"/>
              <a:ext cx="2959200" cy="824040"/>
              <a:chOff x="774720" y="3228840"/>
              <a:chExt cx="2959200" cy="824040"/>
            </a:xfrm>
          </p:grpSpPr>
          <p:sp>
            <p:nvSpPr>
              <p:cNvPr id="173" name=""/>
              <p:cNvSpPr/>
              <p:nvPr/>
            </p:nvSpPr>
            <p:spPr>
              <a:xfrm>
                <a:off x="914400" y="3228840"/>
                <a:ext cx="2819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Futura Lt BT"/>
                  </a:rPr>
                  <a:t>Dirección y Planificación                 Organización y Revis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74720" y="3301920"/>
                <a:ext cx="152640" cy="152640"/>
              </a:xfrm>
              <a:prstGeom prst="flowChartConnector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4720" y="3543480"/>
                <a:ext cx="15264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774720" y="4143240"/>
            <a:ext cx="3949560" cy="580680"/>
            <a:chOff x="774720" y="4143240"/>
            <a:chExt cx="3949560" cy="580680"/>
          </a:xfrm>
        </p:grpSpPr>
        <p:sp>
          <p:nvSpPr>
            <p:cNvPr id="177" name=""/>
            <p:cNvSpPr/>
            <p:nvPr/>
          </p:nvSpPr>
          <p:spPr>
            <a:xfrm>
              <a:off x="3200400" y="4229280"/>
              <a:ext cx="152388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89512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774720" y="4143240"/>
              <a:ext cx="2959200" cy="580680"/>
              <a:chOff x="774720" y="4143240"/>
              <a:chExt cx="2959200" cy="580680"/>
            </a:xfrm>
          </p:grpSpPr>
          <p:sp>
            <p:nvSpPr>
              <p:cNvPr id="180" name=""/>
              <p:cNvSpPr/>
              <p:nvPr/>
            </p:nvSpPr>
            <p:spPr>
              <a:xfrm>
                <a:off x="914400" y="4143240"/>
                <a:ext cx="2819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Futura Lt BT"/>
                  </a:rPr>
                  <a:t>Personal Académico          P.A.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74720" y="4229280"/>
                <a:ext cx="15264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517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4720" y="4470480"/>
                <a:ext cx="15264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517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774720" y="4838760"/>
            <a:ext cx="3949560" cy="1272600"/>
            <a:chOff x="774720" y="4838760"/>
            <a:chExt cx="3949560" cy="1272600"/>
          </a:xfrm>
        </p:grpSpPr>
        <p:sp>
          <p:nvSpPr>
            <p:cNvPr id="184" name=""/>
            <p:cNvSpPr/>
            <p:nvPr/>
          </p:nvSpPr>
          <p:spPr>
            <a:xfrm>
              <a:off x="3200400" y="4838760"/>
              <a:ext cx="152388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209320" y="5257800"/>
              <a:ext cx="1600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774720" y="5530680"/>
              <a:ext cx="2959200" cy="580680"/>
              <a:chOff x="774720" y="5530680"/>
              <a:chExt cx="2959200" cy="580680"/>
            </a:xfrm>
          </p:grpSpPr>
          <p:sp>
            <p:nvSpPr>
              <p:cNvPr id="187" name=""/>
              <p:cNvSpPr/>
              <p:nvPr/>
            </p:nvSpPr>
            <p:spPr>
              <a:xfrm>
                <a:off x="914400" y="5530680"/>
                <a:ext cx="2819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Futura Lt BT"/>
                  </a:rPr>
                  <a:t>Instalaciones e Infraestructur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74720" y="5626080"/>
                <a:ext cx="15264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4800600" y="1828800"/>
            <a:ext cx="3505320" cy="2514600"/>
            <a:chOff x="4800600" y="1828800"/>
            <a:chExt cx="3505320" cy="2514600"/>
          </a:xfrm>
        </p:grpSpPr>
        <p:sp>
          <p:nvSpPr>
            <p:cNvPr id="190" name=""/>
            <p:cNvSpPr/>
            <p:nvPr/>
          </p:nvSpPr>
          <p:spPr>
            <a:xfrm>
              <a:off x="4800600" y="3924360"/>
              <a:ext cx="152388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562720" y="2476440"/>
              <a:ext cx="8380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876920" y="1828800"/>
              <a:ext cx="3429000" cy="824040"/>
              <a:chOff x="4876920" y="1828800"/>
              <a:chExt cx="3429000" cy="824040"/>
            </a:xfrm>
          </p:grpSpPr>
          <p:sp>
            <p:nvSpPr>
              <p:cNvPr id="193" name=""/>
              <p:cNvSpPr/>
              <p:nvPr/>
            </p:nvSpPr>
            <p:spPr>
              <a:xfrm>
                <a:off x="5029200" y="1828800"/>
                <a:ext cx="32767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Futura Lt BT"/>
                  </a:rPr>
                  <a:t>Acceso y Formación Integral                 Proceso de Enseñanza-Aprendizaj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76920" y="191772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76920" y="2158920"/>
                <a:ext cx="152280" cy="152640"/>
              </a:xfrm>
              <a:prstGeom prst="flowChartConnector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5016600" y="3924360"/>
            <a:ext cx="3441600" cy="2627280"/>
            <a:chOff x="5016600" y="3924360"/>
            <a:chExt cx="3441600" cy="2627280"/>
          </a:xfrm>
        </p:grpSpPr>
        <p:sp>
          <p:nvSpPr>
            <p:cNvPr id="197" name=""/>
            <p:cNvSpPr/>
            <p:nvPr/>
          </p:nvSpPr>
          <p:spPr>
            <a:xfrm>
              <a:off x="6343560" y="3924360"/>
              <a:ext cx="152424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400440" y="434340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5016600" y="5727600"/>
              <a:ext cx="3441600" cy="824040"/>
              <a:chOff x="5016600" y="5727600"/>
              <a:chExt cx="3441600" cy="824040"/>
            </a:xfrm>
          </p:grpSpPr>
          <p:sp>
            <p:nvSpPr>
              <p:cNvPr id="200" name=""/>
              <p:cNvSpPr/>
              <p:nvPr/>
            </p:nvSpPr>
            <p:spPr>
              <a:xfrm>
                <a:off x="5181840" y="5727600"/>
                <a:ext cx="3276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Futura Lt BT"/>
                  </a:rPr>
                  <a:t>Resultados del P. Formativo                Resultados de los Egresados Resultados con la Socie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016600" y="5816520"/>
                <a:ext cx="152280" cy="152640"/>
              </a:xfrm>
              <a:prstGeom prst="flowChartConnector">
                <a:avLst/>
              </a:prstGeom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016600" y="605808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016600" y="629928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1905120" y="1233360"/>
            <a:ext cx="5790960" cy="36828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8f8f8"/>
                </a:solidFill>
                <a:latin typeface="Futura Lt BT"/>
              </a:rPr>
              <a:t>CRITERIOS DE EVALUACIÓN PEI Y 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219320" y="609480"/>
            <a:ext cx="7924680" cy="533160"/>
            <a:chOff x="1219320" y="609480"/>
            <a:chExt cx="7924680" cy="533160"/>
          </a:xfrm>
        </p:grpSpPr>
        <p:sp>
          <p:nvSpPr>
            <p:cNvPr id="206" name=""/>
            <p:cNvSpPr/>
            <p:nvPr/>
          </p:nvSpPr>
          <p:spPr>
            <a:xfrm>
              <a:off x="1219320" y="609480"/>
              <a:ext cx="7924680" cy="53316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1311120" y="614160"/>
              <a:ext cx="5318280" cy="457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8f8f8"/>
                  </a:solidFill>
                  <a:latin typeface="Futura Md BT"/>
                </a:rPr>
                <a:t>CALIDAD: ¿CÓMO?</a:t>
              </a:r>
              <a:endPara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  <a:ea typeface="Futura Md BT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324480" y="632448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447920"/>
            <a:ext cx="24382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de"/>
                </a:solidFill>
                <a:latin typeface="Futura Md BT"/>
              </a:rPr>
              <a:t>HAY</a:t>
            </a:r>
            <a:endParaRPr b="1" lang="en-US" sz="2800" spc="1" strike="noStrike">
              <a:ln w="0">
                <a:noFill/>
              </a:ln>
              <a:solidFill>
                <a:srgbClr val="0000de"/>
              </a:solidFill>
              <a:latin typeface="Futura Md BT"/>
              <a:ea typeface="Futura M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de"/>
                </a:solidFill>
                <a:latin typeface="Futura Md BT"/>
              </a:rPr>
              <a:t>ALGO</a:t>
            </a:r>
            <a:endParaRPr b="1" lang="en-US" sz="2800" spc="1" strike="noStrike">
              <a:ln w="0">
                <a:noFill/>
              </a:ln>
              <a:solidFill>
                <a:srgbClr val="0000de"/>
              </a:solidFill>
              <a:latin typeface="Futura Md BT"/>
              <a:ea typeface="Futura M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de"/>
                </a:solidFill>
                <a:latin typeface="Futura Md BT"/>
              </a:rPr>
              <a:t>MÁS...</a:t>
            </a:r>
            <a:endParaRPr b="1" lang="en-US" sz="2800" spc="1" strike="noStrike">
              <a:ln w="0">
                <a:noFill/>
              </a:ln>
              <a:solidFill>
                <a:srgbClr val="0000de"/>
              </a:solidFill>
              <a:latin typeface="Futura Md BT"/>
              <a:ea typeface="Futura Md BT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14440" y="4191120"/>
            <a:ext cx="3600360" cy="1371240"/>
            <a:chOff x="514440" y="4191120"/>
            <a:chExt cx="3600360" cy="1371240"/>
          </a:xfrm>
        </p:grpSpPr>
        <p:sp>
          <p:nvSpPr>
            <p:cNvPr id="211" name=""/>
            <p:cNvSpPr/>
            <p:nvPr/>
          </p:nvSpPr>
          <p:spPr>
            <a:xfrm>
              <a:off x="514440" y="4191120"/>
              <a:ext cx="3600360" cy="1371240"/>
            </a:xfrm>
            <a:prstGeom prst="ellipse">
              <a:avLst/>
            </a:prstGeom>
            <a:solidFill>
              <a:srgbClr val="0000de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4880" y="4380120"/>
              <a:ext cx="3200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8f8f8"/>
                  </a:solidFill>
                  <a:latin typeface="Futura Lt BT"/>
                </a:rPr>
                <a:t>SISTEMA DE GESTIÓN DE CALIDAD SEGÚN UNE-EN-ISO 9001: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629240" y="4191120"/>
            <a:ext cx="3600360" cy="1218960"/>
            <a:chOff x="4629240" y="4191120"/>
            <a:chExt cx="3600360" cy="1218960"/>
          </a:xfrm>
        </p:grpSpPr>
        <p:sp>
          <p:nvSpPr>
            <p:cNvPr id="214" name=""/>
            <p:cNvSpPr/>
            <p:nvPr/>
          </p:nvSpPr>
          <p:spPr>
            <a:xfrm>
              <a:off x="4629240" y="4191120"/>
              <a:ext cx="3600360" cy="1218960"/>
            </a:xfrm>
            <a:prstGeom prst="ellipse">
              <a:avLst/>
            </a:prstGeom>
            <a:solidFill>
              <a:srgbClr val="0000de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96000" y="4457880"/>
              <a:ext cx="320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8f8f8"/>
                  </a:solidFill>
                  <a:latin typeface="Futura Lt BT"/>
                </a:rPr>
                <a:t>SELLO DE EXCELENCIA EUROPEA E.F.Q.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e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219320" y="609480"/>
            <a:ext cx="7924680" cy="533160"/>
            <a:chOff x="1219320" y="609480"/>
            <a:chExt cx="7924680" cy="533160"/>
          </a:xfrm>
        </p:grpSpPr>
        <p:sp>
          <p:nvSpPr>
            <p:cNvPr id="217" name=""/>
            <p:cNvSpPr/>
            <p:nvPr/>
          </p:nvSpPr>
          <p:spPr>
            <a:xfrm>
              <a:off x="1219320" y="609480"/>
              <a:ext cx="7924680" cy="53316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1311120" y="614160"/>
              <a:ext cx="5318280" cy="457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8f8f8"/>
                  </a:solidFill>
                  <a:latin typeface="Futura Md BT"/>
                </a:rPr>
                <a:t>CALIDAD: ¿CÓMO?</a:t>
              </a:r>
              <a:endPara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  <a:ea typeface="Futura Md BT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324480" y="632448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62280" y="1276200"/>
            <a:ext cx="3657600" cy="45972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Futura Lt BT"/>
              </a:rPr>
              <a:t>UNE-EN-ISO 9001: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09480" y="1488960"/>
            <a:ext cx="9321480" cy="5373000"/>
            <a:chOff x="609480" y="1488960"/>
            <a:chExt cx="9321480" cy="5373000"/>
          </a:xfrm>
        </p:grpSpPr>
        <p:graphicFrame>
          <p:nvGraphicFramePr>
            <p:cNvPr id="222" name=""/>
            <p:cNvGraphicFramePr/>
            <p:nvPr/>
          </p:nvGraphicFramePr>
          <p:xfrm>
            <a:off x="660240" y="1545840"/>
            <a:ext cx="5715000" cy="4286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0240" y="1545840"/>
                      <a:ext cx="5715000" cy="428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24" name=""/>
            <p:cNvGrpSpPr/>
            <p:nvPr/>
          </p:nvGrpSpPr>
          <p:grpSpPr>
            <a:xfrm>
              <a:off x="609480" y="1641240"/>
              <a:ext cx="3403440" cy="733320"/>
              <a:chOff x="609480" y="1641240"/>
              <a:chExt cx="3403440" cy="733320"/>
            </a:xfrm>
          </p:grpSpPr>
          <p:sp>
            <p:nvSpPr>
              <p:cNvPr id="225" name=""/>
              <p:cNvSpPr/>
              <p:nvPr/>
            </p:nvSpPr>
            <p:spPr>
              <a:xfrm>
                <a:off x="736200" y="1641240"/>
                <a:ext cx="32767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utura Lt BT"/>
                  </a:rPr>
                  <a:t>Formación                                Infraestructura                             Ambiente de Trabaj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9480" y="173016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09480" y="1933200"/>
                <a:ext cx="152280" cy="15264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9480" y="215568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419200" y="5489280"/>
              <a:ext cx="4088880" cy="1372680"/>
              <a:chOff x="2419200" y="5489280"/>
              <a:chExt cx="4088880" cy="1372680"/>
            </a:xfrm>
          </p:grpSpPr>
          <p:sp>
            <p:nvSpPr>
              <p:cNvPr id="230" name=""/>
              <p:cNvSpPr/>
              <p:nvPr/>
            </p:nvSpPr>
            <p:spPr>
              <a:xfrm>
                <a:off x="2545920" y="5489280"/>
                <a:ext cx="396216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utura Lt BT"/>
                  </a:rPr>
                  <a:t>Planificación de la realización                                Requisitos relacionados con el producto, diseño y desarrollo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utura Lt BT"/>
                  </a:rPr>
                  <a:t>Compras                                               Realización del Producto                              Control Dispositivos Seguimiento y Medi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419200" y="557820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19200" y="578124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19200" y="6003360"/>
                <a:ext cx="152280" cy="15264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19200" y="622584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419200" y="6428880"/>
                <a:ext cx="152280" cy="15264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19200" y="665136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527520" y="1488960"/>
              <a:ext cx="3403440" cy="946440"/>
              <a:chOff x="6527520" y="1488960"/>
              <a:chExt cx="3403440" cy="946440"/>
            </a:xfrm>
          </p:grpSpPr>
          <p:sp>
            <p:nvSpPr>
              <p:cNvPr id="238" name=""/>
              <p:cNvSpPr/>
              <p:nvPr/>
            </p:nvSpPr>
            <p:spPr>
              <a:xfrm>
                <a:off x="6654600" y="1488960"/>
                <a:ext cx="327636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utura Lt BT"/>
                  </a:rPr>
                  <a:t>Compromiso                              Estructura y Responsabilidades                             Política                                   Planificación Ca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27520" y="157788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27520" y="178092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27520" y="2003040"/>
                <a:ext cx="152280" cy="15264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27520" y="221292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76760" y="4508280"/>
              <a:ext cx="3403440" cy="1159560"/>
              <a:chOff x="6476760" y="4508280"/>
              <a:chExt cx="3403440" cy="1159560"/>
            </a:xfrm>
          </p:grpSpPr>
          <p:sp>
            <p:nvSpPr>
              <p:cNvPr id="244" name=""/>
              <p:cNvSpPr/>
              <p:nvPr/>
            </p:nvSpPr>
            <p:spPr>
              <a:xfrm>
                <a:off x="6603840" y="4508280"/>
                <a:ext cx="32763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utura Lt BT"/>
                  </a:rPr>
                  <a:t>Satisfacción del Cliente                              Auditorías Internas                             Seguimiento y Medición                                   No Conformidades                        Mejora Continu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76760" y="459720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476760" y="4800240"/>
                <a:ext cx="152280" cy="15264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476760" y="502272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476760" y="523224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76760" y="546084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 flipH="1" flipV="1">
              <a:off x="1555200" y="2460240"/>
              <a:ext cx="533160" cy="1067040"/>
            </a:xfrm>
            <a:prstGeom prst="line">
              <a:avLst/>
            </a:prstGeom>
            <a:ln w="28440">
              <a:solidFill>
                <a:srgbClr val="0000d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317840" y="2022120"/>
              <a:ext cx="2133360" cy="990720"/>
            </a:xfrm>
            <a:prstGeom prst="line">
              <a:avLst/>
            </a:prstGeom>
            <a:ln w="28440">
              <a:solidFill>
                <a:srgbClr val="0000d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84520" y="3927240"/>
              <a:ext cx="1905120" cy="533520"/>
            </a:xfrm>
            <a:prstGeom prst="line">
              <a:avLst/>
            </a:prstGeom>
            <a:ln w="28440">
              <a:solidFill>
                <a:srgbClr val="0000d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403080" y="5051160"/>
              <a:ext cx="75960" cy="457200"/>
            </a:xfrm>
            <a:prstGeom prst="line">
              <a:avLst/>
            </a:prstGeom>
            <a:ln w="28440">
              <a:solidFill>
                <a:srgbClr val="0000d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e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1219320" y="533520"/>
            <a:ext cx="7924680" cy="533160"/>
            <a:chOff x="1219320" y="533520"/>
            <a:chExt cx="7924680" cy="533160"/>
          </a:xfrm>
        </p:grpSpPr>
        <p:sp>
          <p:nvSpPr>
            <p:cNvPr id="255" name=""/>
            <p:cNvSpPr/>
            <p:nvPr/>
          </p:nvSpPr>
          <p:spPr>
            <a:xfrm>
              <a:off x="1219320" y="533520"/>
              <a:ext cx="7924680" cy="533160"/>
            </a:xfrm>
            <a:prstGeom prst="rect">
              <a:avLst/>
            </a:prstGeom>
            <a:solidFill>
              <a:srgbClr val="000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1311120" y="538200"/>
              <a:ext cx="5318280" cy="457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8f8f8"/>
                  </a:solidFill>
                  <a:latin typeface="Futura Md BT"/>
                </a:rPr>
                <a:t>CALIDAD: ¿CÓMO?</a:t>
              </a:r>
              <a:endParaRPr b="1" lang="en-US" sz="2000" spc="1" strike="noStrike">
                <a:ln w="0">
                  <a:noFill/>
                </a:ln>
                <a:solidFill>
                  <a:srgbClr val="f8f8f8"/>
                </a:solidFill>
                <a:latin typeface="Futura Md BT"/>
                <a:ea typeface="Futura Md BT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324480" y="6324480"/>
            <a:ext cx="2819520" cy="3049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1219320"/>
            <a:ext cx="7162560" cy="642600"/>
          </a:xfrm>
          <a:prstGeom prst="rect">
            <a:avLst/>
          </a:prstGeom>
          <a:solidFill>
            <a:srgbClr val="000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8f8f8"/>
                </a:solidFill>
                <a:latin typeface="Futura Lt BT"/>
              </a:rPr>
              <a:t>MODELO DE EXCELENCIA DE LA EUROPEAN FOUNDATION FOR QUALITY MANAGEMENT (EFQ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209680" y="2286000"/>
          <a:ext cx="6934320" cy="33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286000"/>
                    <a:ext cx="69343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1" name=""/>
          <p:cNvGrpSpPr/>
          <p:nvPr/>
        </p:nvGrpSpPr>
        <p:grpSpPr>
          <a:xfrm>
            <a:off x="304920" y="1936800"/>
            <a:ext cx="3403440" cy="1167840"/>
            <a:chOff x="304920" y="1936800"/>
            <a:chExt cx="3403440" cy="1167840"/>
          </a:xfrm>
        </p:grpSpPr>
        <p:grpSp>
          <p:nvGrpSpPr>
            <p:cNvPr id="262" name=""/>
            <p:cNvGrpSpPr/>
            <p:nvPr/>
          </p:nvGrpSpPr>
          <p:grpSpPr>
            <a:xfrm>
              <a:off x="304920" y="1936800"/>
              <a:ext cx="3403440" cy="733320"/>
              <a:chOff x="304920" y="1936800"/>
              <a:chExt cx="3403440" cy="733320"/>
            </a:xfrm>
          </p:grpSpPr>
          <p:sp>
            <p:nvSpPr>
              <p:cNvPr id="263" name=""/>
              <p:cNvSpPr/>
              <p:nvPr/>
            </p:nvSpPr>
            <p:spPr>
              <a:xfrm>
                <a:off x="431640" y="1936800"/>
                <a:ext cx="32767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Futura Lt BT"/>
                  </a:rPr>
                  <a:t>Misión, Visión, Valores y Principios                              Implicación Personal                           Interactu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4920" y="202572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4920" y="2228760"/>
                <a:ext cx="152280" cy="15264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4920" y="2451240"/>
                <a:ext cx="152280" cy="152280"/>
              </a:xfrm>
              <a:prstGeom prst="flowChartConnector">
                <a:avLst/>
              </a:prstGeom>
              <a:gradFill rotWithShape="0">
                <a:gsLst>
                  <a:gs pos="0">
                    <a:srgbClr val="0000de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431640" y="258444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utura Lt BT"/>
                </a:rPr>
                <a:t>Refuerzo                                     Impulso del camb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4920" y="2673360"/>
              <a:ext cx="152280" cy="15228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4920" y="2876400"/>
              <a:ext cx="152280" cy="15264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6320" y="4114800"/>
            <a:ext cx="3403080" cy="920160"/>
            <a:chOff x="76320" y="4114800"/>
            <a:chExt cx="3403080" cy="920160"/>
          </a:xfrm>
        </p:grpSpPr>
        <p:sp>
          <p:nvSpPr>
            <p:cNvPr id="271" name=""/>
            <p:cNvSpPr/>
            <p:nvPr/>
          </p:nvSpPr>
          <p:spPr>
            <a:xfrm>
              <a:off x="203040" y="4114800"/>
              <a:ext cx="3276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utura Lt BT"/>
                </a:rPr>
                <a:t>Necesidades  y expectativas                              Desarrol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320" y="4203720"/>
              <a:ext cx="152280" cy="15228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320" y="4425840"/>
              <a:ext cx="152280" cy="15264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3040" y="4514760"/>
              <a:ext cx="3276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utura Lt BT"/>
                </a:rPr>
                <a:t>Comunicación y Despliegue                                  Impulso del camb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320" y="4603680"/>
              <a:ext cx="152280" cy="15264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320" y="4807080"/>
              <a:ext cx="152280" cy="15228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276720" y="1936800"/>
            <a:ext cx="3403440" cy="946440"/>
            <a:chOff x="3276720" y="1936800"/>
            <a:chExt cx="3403440" cy="946440"/>
          </a:xfrm>
        </p:grpSpPr>
        <p:sp>
          <p:nvSpPr>
            <p:cNvPr id="278" name=""/>
            <p:cNvSpPr/>
            <p:nvPr/>
          </p:nvSpPr>
          <p:spPr>
            <a:xfrm>
              <a:off x="3403440" y="1936800"/>
              <a:ext cx="327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utura Lt BT"/>
                </a:rPr>
                <a:t>Recursos Humanos                              Implicación y Diálogo                           Recompensa, Conocimiento y Aten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76720" y="2025720"/>
              <a:ext cx="152280" cy="15228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6720" y="2228760"/>
              <a:ext cx="152280" cy="15264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76720" y="2451240"/>
              <a:ext cx="152280" cy="15228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76320" y="5334120"/>
            <a:ext cx="3504600" cy="946440"/>
            <a:chOff x="76320" y="5334120"/>
            <a:chExt cx="3504600" cy="946440"/>
          </a:xfrm>
        </p:grpSpPr>
        <p:sp>
          <p:nvSpPr>
            <p:cNvPr id="283" name=""/>
            <p:cNvSpPr/>
            <p:nvPr/>
          </p:nvSpPr>
          <p:spPr>
            <a:xfrm>
              <a:off x="206640" y="5334120"/>
              <a:ext cx="3374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utura Lt BT"/>
                </a:rPr>
                <a:t>Gestión de Alianzas y Recursos                              Infraestructuras y Tecnología                           Gestión de la información y   conoci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320" y="5423040"/>
              <a:ext cx="156600" cy="15228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20" y="5626080"/>
              <a:ext cx="156600" cy="15264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320" y="5848560"/>
              <a:ext cx="156600" cy="15228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666880" y="5410080"/>
            <a:ext cx="3505320" cy="946440"/>
            <a:chOff x="2666880" y="5410080"/>
            <a:chExt cx="3505320" cy="946440"/>
          </a:xfrm>
        </p:grpSpPr>
        <p:sp>
          <p:nvSpPr>
            <p:cNvPr id="288" name=""/>
            <p:cNvSpPr/>
            <p:nvPr/>
          </p:nvSpPr>
          <p:spPr>
            <a:xfrm>
              <a:off x="2797200" y="5410080"/>
              <a:ext cx="3375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utura Lt BT"/>
                </a:rPr>
                <a:t>Diseño y Gestión Sistemática         Mejoras                                         Diseño y Desarrollo de productos     Gestión y Mejora de las relaciones con cl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66880" y="5499000"/>
              <a:ext cx="157320" cy="15264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66880" y="5702400"/>
              <a:ext cx="157320" cy="15228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66880" y="5924520"/>
              <a:ext cx="157320" cy="15228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6880" y="6134040"/>
              <a:ext cx="157320" cy="15264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654960" y="5502240"/>
            <a:ext cx="3403080" cy="520200"/>
            <a:chOff x="6654960" y="5502240"/>
            <a:chExt cx="3403080" cy="520200"/>
          </a:xfrm>
        </p:grpSpPr>
        <p:sp>
          <p:nvSpPr>
            <p:cNvPr id="294" name=""/>
            <p:cNvSpPr/>
            <p:nvPr/>
          </p:nvSpPr>
          <p:spPr>
            <a:xfrm>
              <a:off x="6781680" y="5502240"/>
              <a:ext cx="3276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Futura Lt BT"/>
                </a:rPr>
                <a:t>Resultados de Percepción                              Resultados de Rendi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54960" y="5591160"/>
              <a:ext cx="152280" cy="15228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54960" y="5794560"/>
              <a:ext cx="152280" cy="152280"/>
            </a:xfrm>
            <a:prstGeom prst="flowChartConnector">
              <a:avLst/>
            </a:prstGeom>
            <a:gradFill rotWithShape="0">
              <a:gsLst>
                <a:gs pos="0">
                  <a:srgbClr val="0000de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 flipH="1" flipV="1">
            <a:off x="1752120" y="2514240"/>
            <a:ext cx="1676520" cy="1219320"/>
          </a:xfrm>
          <a:prstGeom prst="line">
            <a:avLst/>
          </a:prstGeom>
          <a:ln w="28440">
            <a:solidFill>
              <a:srgbClr val="0000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362320" y="3886200"/>
            <a:ext cx="1828800" cy="685800"/>
          </a:xfrm>
          <a:prstGeom prst="line">
            <a:avLst/>
          </a:prstGeom>
          <a:ln w="28440">
            <a:solidFill>
              <a:srgbClr val="0000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4343040" y="2590560"/>
            <a:ext cx="152280" cy="685800"/>
          </a:xfrm>
          <a:prstGeom prst="line">
            <a:avLst/>
          </a:prstGeom>
          <a:ln w="28440">
            <a:solidFill>
              <a:srgbClr val="0000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371600" y="4648320"/>
            <a:ext cx="3200400" cy="761760"/>
          </a:xfrm>
          <a:prstGeom prst="line">
            <a:avLst/>
          </a:prstGeom>
          <a:ln w="28440">
            <a:solidFill>
              <a:srgbClr val="0000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809880" y="4038480"/>
            <a:ext cx="1828800" cy="1371600"/>
          </a:xfrm>
          <a:prstGeom prst="line">
            <a:avLst/>
          </a:prstGeom>
          <a:ln w="28440">
            <a:solidFill>
              <a:srgbClr val="0000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15200" y="4724280"/>
            <a:ext cx="533520" cy="762120"/>
          </a:xfrm>
          <a:prstGeom prst="line">
            <a:avLst/>
          </a:prstGeom>
          <a:ln w="28440">
            <a:solidFill>
              <a:srgbClr val="0000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18:47:14Z</dcterms:created>
  <dc:creator>Loreto del Río Bermúdez</dc:creator>
  <dc:description/>
  <dc:language>en-US</dc:language>
  <cp:lastModifiedBy>ose</cp:lastModifiedBy>
  <dcterms:modified xsi:type="dcterms:W3CDTF">2006-06-28T17:31:58Z</dcterms:modified>
  <cp:revision>10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7350889</vt:r8>
  </property>
  <property fmtid="{D5CDD505-2E9C-101B-9397-08002B2CF9AE}" pid="3" name="_AuthorEmail">
    <vt:lpwstr>jdepablo@aneca.es</vt:lpwstr>
  </property>
  <property fmtid="{D5CDD505-2E9C-101B-9397-08002B2CF9AE}" pid="4" name="_AuthorEmailDisplayName">
    <vt:lpwstr>Jorge M. de Pablo Jiménez</vt:lpwstr>
  </property>
  <property fmtid="{D5CDD505-2E9C-101B-9397-08002B2CF9AE}" pid="5" name="_EmailSubject">
    <vt:lpwstr>Almuñécar</vt:lpwstr>
  </property>
</Properties>
</file>