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0FD-B134-4EBC-B0E0-90A61BFD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034-8197-495C-B7DA-46FC5263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2F2-44B0-4EB3-86D7-7D7C20A7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444-9499-4645-8BC2-F9C8D5D3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67EF-09A1-4F02-8999-F35F0411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9F02-363D-410C-9A15-D4D6C401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BDA3-9555-4B71-B0BC-F128C233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2D9E-DE75-4F03-A2B5-51B0392B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74D1-6EEB-4155-8B70-D5E426BB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750-0B35-487A-99A0-A2BD5EBD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9E90-6C8D-48EB-B5B6-1113684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9A5-E2D1-4F4A-975E-3063275A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CCAE-AD76-4E7F-A42F-892C3B7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1AFA-DA4E-439D-95AB-E03622D3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203B-01B2-4559-988D-6792207B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718C-B437-4E1F-8B0A-4276A208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1F2A-2136-4808-897F-A1F2AA40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F93-7B3D-4AC2-AAC1-06A4B4EA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8F2-1F76-4E6A-A290-B516F356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69A-EC75-480F-8A2E-030B449F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010-FE27-4A2D-BF5A-F59CEFE8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E97-7AA0-4E42-BF0F-FBA541B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696-4A40-4ED6-ABF7-2D44A61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077-9AF7-4AEB-99CE-0FCAEE5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02-03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0389-7289-485F-93A0-7EE45E64CD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" name="" descr=""/>
          <p:cNvPicPr/>
          <p:nvPr/>
        </p:nvPicPr>
        <p:blipFill>
          <a:blip r:embed="rId3"/>
          <a:stretch/>
        </p:blipFill>
        <p:spPr>
          <a:xfrm>
            <a:off x="4211640" y="981000"/>
            <a:ext cx="4572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802C-73C3-47FD-AABD-505B44EF662D}" type="datetime">
              <a:rPr b="0" lang="es-ES" sz="1400" spc="-1" strike="noStrike">
                <a:solidFill>
                  <a:srgbClr val="f8f8f8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FD13-0910-4F81-AAFA-D1C9A0C78324}" type="slidenum">
              <a:rPr b="0" lang="es-E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0902-0%20Hoja%20de%20Minuta.xl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LTA.pdf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00400" y="1797120"/>
            <a:ext cx="611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OLEGIO OFICIAL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DE INGENIERO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TECNICOS INDUSTRIAL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008-24B9-4E87-8A6C-EE988EE9BE5B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0920" y="1828800"/>
            <a:ext cx="8218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ICULO 3 Fin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fin del colegio ordenar el ejercicio de la profesión, dentro d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o de las leyes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efensa de los intereses generales de la profesió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ar por la ética y la dignidad de la profesió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ilitar formación profesional a los colegiad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325-5271-42A0-BB42-9F3B78C82AAE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9040" y="1714680"/>
            <a:ext cx="862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ICULO 4 Funcion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ar la actividad profesion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robar los estatutos y modificarl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presentar la profesión frente a la Administración, tribuna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tituciones, particulares..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brar lo honorarios de los colegiados, siempre q estos lo solicite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aborar baremos de carácter orientativ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rcer medidas para evitar competencia deslea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SADO DE TRABAJOS PROFESIONA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BC9-1061-4004-8498-87D9E82805B4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54560" y="1336680"/>
            <a:ext cx="761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ICULO 12 Deberes corporativos de los colegiad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mplir los estatutos y los acuerdos que tomen los órgan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gobiern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go de las cuot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cer respetar el ejercicio profesiona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unicar el domicilio y los posibles cambios de est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F5C-425B-4A38-81CE-7FC05F278198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80680" y="1847880"/>
            <a:ext cx="850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ICULO 14 Deberes de los colegiados de ejercicio libr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más de las del Art. 13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mplir con las prescripciones legales oportun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meter a visado todos los trabajos que se deriven de su actividad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scribir una póliza de responsabilidad civi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E57-52A5-418C-90EF-802F0BA6C861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97240" y="1924200"/>
            <a:ext cx="797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ICULO 14 Derechos de los colegiados de ejercicio libr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obro de honorari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realización de sus actividades en todas las comunidade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n que la Administración ni terceros limiten sus atribucione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onocidas por la ley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110-2592-421E-94AB-A3A4370EFEDB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87160" y="1793880"/>
            <a:ext cx="809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ICULO 15 Derechos corporativos de los colegiad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uso y disfrute de los bienes del colegi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roponer sugerencias y peticiones a los órganos de gobiern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solicitar amparo al colegio cuando vean menoscabadas s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tribucion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conocer las cuentas del colegi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cipar en las elecciones de las nuevas junt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403-E96E-4EBD-BF39-21C2BAE9D78B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79240" y="2622600"/>
            <a:ext cx="209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VISADO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D66-76CB-44B9-8722-D08E28039AE6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81120" y="1260360"/>
            <a:ext cx="5470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º Documentaci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º Seguro de responsabilidad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º Tipo de proyectos y presentaci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º Visado electrónic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º Firma digit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B37-7DEF-4724-A819-C9E5B53EBFC7}" type="slidenum">
              <a:t>17</a:t>
            </a:fld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86280" y="1523880"/>
            <a:ext cx="7477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O ASALARIAD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C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rtificado de  empresa en la que se refleje que 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 como Ingeniero Técnic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ro de responsabilidad civil </a:t>
            </a: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boletí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O AUTONOM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tocopia de estar dado de alta en el epígrafe 32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ro de responsabilidad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07080" y="955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OCUMENTAC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106-CB4E-41A0-B698-BC25CCC2DF51}" type="slidenum">
              <a:t>18</a:t>
            </a:fld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2240" y="2098800"/>
            <a:ext cx="43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JA DE MINU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ffff"/>
                </a:solidFill>
                <a:uFillTx/>
                <a:latin typeface="Times New Roman"/>
                <a:hlinkClick r:id="rId2"/>
              </a:rPr>
              <a:t>MINU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JA DE ENCARG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ARG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C65-1D02-415F-824A-C1F408A3269F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6A5-77D6-4CD8-8D62-8889E3D4D99A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01240" y="1473120"/>
            <a:ext cx="697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S DE TRABAJOS PROFESIO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YECT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920" y="2479680"/>
            <a:ext cx="821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trucción de naves industrial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cuación de locales comercial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talaciones ( eléctricas, gas, saneamiento, GLP, climatización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ntanería, frío industrial, ascensores... 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ú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formas de vehícul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yectos de actividad.     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4DE-6B23-4E08-A899-986245F373D0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38480" y="19051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ROS TRABAJ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6160" y="2631960"/>
            <a:ext cx="570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formes técnico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uid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vantamientos topográfic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udios de Seguridad y salu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acion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itaciones para juzgad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tas de aprobación de planes de segurida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C4A-EFF6-4266-BD60-530E1FD308C9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69760" y="1828800"/>
            <a:ext cx="617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PODEMOS FIRMA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yectos de telecomunicacion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trucción de viviend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trucciones de puentes, carreteras..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21A-9195-4D08-8972-3DAB89B277F2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22400" y="1600200"/>
            <a:ext cx="63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ESENTACION DE LOS TRABAJ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2327400"/>
            <a:ext cx="633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tad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Índice gen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álcul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iego de condicion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udio de Seguridad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sentación de trabaj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CB4-366F-4502-9E98-8BD28F12AFDA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899440" y="3994200"/>
            <a:ext cx="299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ISTICAS 200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SAD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54520" y="1946160"/>
            <a:ext cx="25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RMATIV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glament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1E4-C7FB-4D62-B899-D1D58F95FDF5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81200" y="2784600"/>
            <a:ext cx="351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SADO ELECTRONIC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:visad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C9D-BC32-4F84-ABFD-A33935305C4F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36880" y="1946160"/>
            <a:ext cx="635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RMA DIGIT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colaboración con el Consejo Genera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rjeta personal con códig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licaciones para visado, consultas de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cienda, pago de mult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rjet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sa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F95-81F2-412E-880B-5C15BA32DEA4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99360" y="2098800"/>
            <a:ext cx="33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YECTOS REA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GINA WE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6BD-0001-447A-9CF8-2E1603732085}" type="slidenum">
              <a:t>27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217476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LEGIACION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SAD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3FD-EC8B-4EFA-BE02-016CA444D7E9}" type="slidenum">
              <a:t>3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00280" y="273996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LEGIAC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FE6-975B-43BF-A11D-CE9A2AEFFBBD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219320"/>
            <a:ext cx="689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OCUMENTACION NECESAR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ginal y fotocopia del título o d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guardo de haberlo solicitad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ginal y fotocopia del D.N.I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 fotografía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º de cuenta para las cuotas colegiale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36,6 € año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,80 eur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ffff"/>
                </a:solidFill>
                <a:uFillTx/>
                <a:latin typeface="Times New Roman"/>
                <a:hlinkClick r:id="rId2"/>
              </a:rPr>
              <a:t>impres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0" y="3429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E7C-5A17-4D41-AB5D-DBDC0EB3C6AA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0040" y="1414080"/>
            <a:ext cx="606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JAS DE ESTAR COLEGIAD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lsa de emple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rs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vista técnic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formación técnica a través de la we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cursion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eso a la biblioteca y programa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formátic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406-68D0-4DEB-A5CF-4D66A654FAE7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86960" y="1981440"/>
            <a:ext cx="43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ro de responsabilidad civi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un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UNS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PIT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497-D36F-4444-840A-8ADB31880A04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356640" y="2514600"/>
            <a:ext cx="230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TATUT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443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ffff"/>
                </a:solidFill>
                <a:uFillTx/>
                <a:latin typeface="Times New Roman"/>
              </a:rPr>
              <a:t>ESTATUT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C98-B816-4DE8-B2CF-2960A02AF58A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22000" y="1676520"/>
            <a:ext cx="848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ICULO 1Del colegi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olegio esta reconocido por el Art. 36 de la Constitució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regula por la ley 4-1999 de La Comunidad de La Rioj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ICULO 2 De los miembros del colegi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án miembros quienes tengan su título reconocido y lo solicite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O.I.T.I.: ENRIQUE CEBALLOS       FERNANDEZ            02-03-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7D7-AEAA-4A23-B5F4-5670AACB1F1D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1:51:59Z</dcterms:created>
  <dc:creator>enrique</dc:creator>
  <dc:description/>
  <dc:language>en-US</dc:language>
  <cp:lastModifiedBy>UR</cp:lastModifiedBy>
  <dcterms:modified xsi:type="dcterms:W3CDTF">2006-03-02T17:05:16Z</dcterms:modified>
  <cp:revision>38</cp:revision>
  <dc:subject/>
  <dc:title>Presentación de PowerPoint</dc:title>
</cp:coreProperties>
</file>